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0" y="6930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elations: mentor that is exploitive and/or egocen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otage: one takes revenge on the other (ex. Protégé did not get “promised” promotion may give mentor the silent treatment; Mentor who depends on protégé may sabotage protégé’s move to another company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y:  person has good intentions but psycho-social problems get in way.  Ex: mentor tells female protégé to delay having children in order to advance care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iling: Problems are related to vocational interests.  “Betrayed” party regrets investing so heavily in mentorship.  Protégé feels mentor is stealing his/her ideas and not giving proper credit; mentor didn’t think this was an issue; protégé goes over mentor’s head; mentor feels betrayed)  Relationship is spoi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3D7-1CC9-4CBA-A4B5-3EC38602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8D7-9356-4E12-B4C9-4EA0789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F0A-8E2C-4387-94E7-FAEFBB06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1FE-83C4-448D-9767-CFFDC2C5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74EC-56E0-4E6B-9303-F10F2278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8FFA-6ED8-4477-B5B4-0CB83616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DE48-03E0-4F4F-9F05-F5A48F9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1135-3698-4682-B8B1-F5635BF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7D9-3716-4B00-A0B4-262251D3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F88-C95E-4047-B3B8-4FFF3EAA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E4CC-1726-41A5-B555-A2A040E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F5A-163B-4EB0-B0DB-6490F2AE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88A2-6B35-4A0C-9C2C-CADA2EA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E80E-AF90-4417-8A0E-0F6DC73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7DB-9B6B-497A-BB7A-5CDA94F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A55B-12E6-4CAB-B0E9-F9BF310E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C574-7698-42DD-A2D2-05EF01B4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569-31C7-422D-AC35-12EF1110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F13-7436-4221-9DDE-28EF7E83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555-A8D4-40EB-87D7-051B5295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49A-57B9-4B04-98CA-EBB52C0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926-F7BF-49BC-80B3-AA1FEDD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0B6-84E3-482E-8F92-3AD1508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7A3-F4CC-4C84-921C-0347367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F68-0D47-40DC-A755-3AA870F20F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AB9-5FBA-4B15-BB67-D0BA7FD87E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entering on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1760" y="4114800"/>
            <a:ext cx="7391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 Training Program For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Mentors And Mente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40992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2971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ysfunctional mentoring: When th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lationship does not work for one 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re parti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nda Tripp/Monica Lewins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blems develop whe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Interests of the parties chang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Differences in judgment between partie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Intrusion/over-involvement in another’s personal problem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Triangulation problem with others (mentor/mentee/supervisor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Destructive tone of relationship (e.g., envy/jealousy; dependency/suffocation; support/exploitation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6800" y="2886120"/>
            <a:ext cx="4730400" cy="1082520"/>
            <a:chOff x="2206800" y="2886120"/>
            <a:chExt cx="4730400" cy="1082520"/>
          </a:xfrm>
        </p:grpSpPr>
        <p:sp>
          <p:nvSpPr>
            <p:cNvPr id="243" name=""/>
            <p:cNvSpPr/>
            <p:nvPr/>
          </p:nvSpPr>
          <p:spPr>
            <a:xfrm>
              <a:off x="2206800" y="2886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2886120"/>
              <a:ext cx="47304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  </a:t>
              </a:r>
              <a:r>
                <a:rPr b="0" lang="en-US" sz="65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  <a:ea typeface="Arial"/>
                </a:rPr>
                <a:t>                    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14880" y="2468520"/>
            <a:ext cx="3682800" cy="360"/>
            <a:chOff x="3314880" y="2468520"/>
            <a:chExt cx="3682800" cy="360"/>
          </a:xfrm>
        </p:grpSpPr>
        <p:sp>
          <p:nvSpPr>
            <p:cNvPr id="246" name=""/>
            <p:cNvSpPr/>
            <p:nvPr/>
          </p:nvSpPr>
          <p:spPr>
            <a:xfrm>
              <a:off x="3314880" y="2468520"/>
              <a:ext cx="3682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14880" y="2468520"/>
              <a:ext cx="182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Four Potential Dysfunction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n Mentoring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00200"/>
          <a:ext cx="8153280" cy="44132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sychosocial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areer-related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Bad intent toward other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gative Relations (bullies, enemies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abotage (revenge, silent treatment, career damage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ood intent toward other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ifficulty (conflict, binds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poiling (betrayal, regret, mentor off fast track)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228600" y="6553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Scandura, T. A. (1998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Formal Mentoring Pro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ogram length is specified (12 mont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urpose of program is to help early care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logists establish and develop their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are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ogram participation is volunt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tching of mentors and mentees uses in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om participa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est areas in psych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mograph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Formal Mentoring Pro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dvocate developmental networ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nitoring program: Relationships should end a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on as they become dysfunct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aluation of progr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ttle research on formal mentoring program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vailable research supports informal mentoring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 a stronger relationship with better outcom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 current research examining quality of forma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ntoring programs and their outcome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(Wanberg, Welsh, &amp; Hezlett, 2003)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0" y="-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0"/>
            <a:ext cx="8915040" cy="6400800"/>
            <a:chOff x="0" y="0"/>
            <a:chExt cx="8915040" cy="6400800"/>
          </a:xfrm>
        </p:grpSpPr>
        <p:grpSp>
          <p:nvGrpSpPr>
            <p:cNvPr id="261" name=""/>
            <p:cNvGrpSpPr/>
            <p:nvPr/>
          </p:nvGrpSpPr>
          <p:grpSpPr>
            <a:xfrm>
              <a:off x="3960" y="1800"/>
              <a:ext cx="8906400" cy="6396840"/>
              <a:chOff x="3960" y="1800"/>
              <a:chExt cx="8906400" cy="639684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960" y="1800"/>
                <a:ext cx="2639160" cy="1181520"/>
                <a:chOff x="3960" y="1800"/>
                <a:chExt cx="2639160" cy="11815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87840" y="1800"/>
                  <a:ext cx="24710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0" y="1800"/>
                  <a:ext cx="263916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643480" y="1800"/>
                <a:ext cx="1092600" cy="1181520"/>
                <a:chOff x="2643480" y="1800"/>
                <a:chExt cx="1092600" cy="11815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727360" y="1800"/>
                  <a:ext cx="9248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veloper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is org.  superior to the mente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643480" y="1800"/>
                  <a:ext cx="109260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736800" y="1800"/>
                <a:ext cx="1092960" cy="1181520"/>
                <a:chOff x="3736800" y="1800"/>
                <a:chExt cx="1092960" cy="1181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820680" y="1800"/>
                  <a:ext cx="9248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veloper is org. peer to the mente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36800" y="1800"/>
                  <a:ext cx="109296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830480" y="1800"/>
                <a:ext cx="1063440" cy="1181520"/>
                <a:chOff x="4830480" y="1800"/>
                <a:chExt cx="1063440" cy="11815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914000" y="1800"/>
                  <a:ext cx="89604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veloper is org. subordinae to the mente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30480" y="1800"/>
                  <a:ext cx="106344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894280" y="1800"/>
                <a:ext cx="1017000" cy="1181520"/>
                <a:chOff x="5894280" y="1800"/>
                <a:chExt cx="1017000" cy="1181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978160" y="1800"/>
                  <a:ext cx="84888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mo-graphic match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894280" y="1800"/>
                  <a:ext cx="101700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911640" y="1800"/>
                <a:ext cx="987120" cy="1181520"/>
                <a:chOff x="6911640" y="1800"/>
                <a:chExt cx="987120" cy="11815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995160" y="1800"/>
                  <a:ext cx="81936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ofess-ional/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Interest area match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911640" y="1800"/>
                  <a:ext cx="98712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99480" y="1800"/>
                <a:ext cx="1010880" cy="1181520"/>
                <a:chOff x="7899480" y="1800"/>
                <a:chExt cx="1010880" cy="11815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983360" y="1800"/>
                  <a:ext cx="843120" cy="118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Geograph-ical location match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99480" y="1800"/>
                  <a:ext cx="1010880" cy="118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960" y="1183320"/>
                <a:ext cx="2639160" cy="573480"/>
                <a:chOff x="3960" y="1183320"/>
                <a:chExt cx="2639160" cy="573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7840" y="118332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Coaching mentee with strategies for meeting job expectations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60" y="118332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643480" y="1183320"/>
                <a:ext cx="1092600" cy="573480"/>
                <a:chOff x="2643480" y="1183320"/>
                <a:chExt cx="1092600" cy="573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727360" y="118332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89105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43480" y="118332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736800" y="1183320"/>
                <a:ext cx="1092960" cy="573480"/>
                <a:chOff x="3736800" y="1183320"/>
                <a:chExt cx="1092960" cy="573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820680" y="118332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3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3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36800" y="118332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830480" y="1183320"/>
                <a:ext cx="1063440" cy="573480"/>
                <a:chOff x="4830480" y="1183320"/>
                <a:chExt cx="1063440" cy="573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914000" y="118332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830480" y="118332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5894280" y="1183320"/>
                <a:ext cx="1017000" cy="573480"/>
                <a:chOff x="5894280" y="1183320"/>
                <a:chExt cx="1017000" cy="573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978160" y="118332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894280" y="118332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911640" y="1183320"/>
                <a:ext cx="987120" cy="573480"/>
                <a:chOff x="6911640" y="1183320"/>
                <a:chExt cx="987120" cy="573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995160" y="118332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911640" y="118332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7899480" y="1183320"/>
                <a:ext cx="1010880" cy="573480"/>
                <a:chOff x="7899480" y="1183320"/>
                <a:chExt cx="1010880" cy="573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983360" y="118332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899480" y="118332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960" y="1757160"/>
                <a:ext cx="2639160" cy="573480"/>
                <a:chOff x="3960" y="1757160"/>
                <a:chExt cx="2639160" cy="573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7840" y="175716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Challenging mentee with stretch assignments/goal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60" y="175716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643480" y="1757160"/>
                <a:ext cx="1092600" cy="573480"/>
                <a:chOff x="2643480" y="1757160"/>
                <a:chExt cx="1092600" cy="573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727360" y="175716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43480" y="175716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736800" y="1757160"/>
                <a:ext cx="1092960" cy="573480"/>
                <a:chOff x="3736800" y="1757160"/>
                <a:chExt cx="1092960" cy="573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820680" y="175716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736800" y="175716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830480" y="1757160"/>
                <a:ext cx="1063440" cy="573480"/>
                <a:chOff x="4830480" y="1757160"/>
                <a:chExt cx="1063440" cy="573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914000" y="175716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830480" y="175716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894280" y="1757160"/>
                <a:ext cx="1017000" cy="573480"/>
                <a:chOff x="5894280" y="1757160"/>
                <a:chExt cx="1017000" cy="573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978160" y="175716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894280" y="175716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911640" y="1757160"/>
                <a:ext cx="987120" cy="573480"/>
                <a:chOff x="6911640" y="1757160"/>
                <a:chExt cx="987120" cy="573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995160" y="175716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911640" y="175716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899480" y="1757160"/>
                <a:ext cx="1010880" cy="573480"/>
                <a:chOff x="7899480" y="1757160"/>
                <a:chExt cx="1010880" cy="573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983360" y="175716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9480" y="175716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960" y="2330640"/>
                <a:ext cx="2639160" cy="573480"/>
                <a:chOff x="3960" y="2330640"/>
                <a:chExt cx="2639160" cy="573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87840" y="233064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Enhancing the mentee’s exposure and visibility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960" y="233064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643480" y="2330640"/>
                <a:ext cx="1092600" cy="573480"/>
                <a:chOff x="2643480" y="2330640"/>
                <a:chExt cx="1092600" cy="573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727360" y="233064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643480" y="233064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736800" y="2330640"/>
                <a:ext cx="1092960" cy="573480"/>
                <a:chOff x="3736800" y="2330640"/>
                <a:chExt cx="1092960" cy="573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820680" y="233064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36800" y="233064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830480" y="2330640"/>
                <a:ext cx="1063440" cy="573480"/>
                <a:chOff x="4830480" y="2330640"/>
                <a:chExt cx="1063440" cy="573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914000" y="233064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830480" y="233064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894280" y="2330640"/>
                <a:ext cx="1017000" cy="573480"/>
                <a:chOff x="5894280" y="2330640"/>
                <a:chExt cx="1017000" cy="573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978160" y="233064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894280" y="233064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911640" y="2330640"/>
                <a:ext cx="987120" cy="573480"/>
                <a:chOff x="6911640" y="2330640"/>
                <a:chExt cx="987120" cy="573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95160" y="233064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911640" y="233064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899480" y="2330640"/>
                <a:ext cx="1010880" cy="573480"/>
                <a:chOff x="7899480" y="2330640"/>
                <a:chExt cx="1010880" cy="573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983360" y="233064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899480" y="233064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960" y="2904480"/>
                <a:ext cx="2639160" cy="677880"/>
                <a:chOff x="3960" y="2904480"/>
                <a:chExt cx="2639160" cy="6778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7840" y="2904480"/>
                  <a:ext cx="24710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Protection of mentee from potentially negative contacts with other org. members.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960" y="2904480"/>
                  <a:ext cx="263916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43480" y="2904480"/>
                <a:ext cx="1092600" cy="677880"/>
                <a:chOff x="2643480" y="2904480"/>
                <a:chExt cx="1092600" cy="6778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727360" y="2904480"/>
                  <a:ext cx="9248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43480" y="2904480"/>
                  <a:ext cx="109260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736800" y="2904480"/>
                <a:ext cx="1092960" cy="677880"/>
                <a:chOff x="3736800" y="2904480"/>
                <a:chExt cx="1092960" cy="6778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820680" y="2904480"/>
                  <a:ext cx="9248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36800" y="2904480"/>
                  <a:ext cx="109296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830480" y="2904480"/>
                <a:ext cx="1063440" cy="677880"/>
                <a:chOff x="4830480" y="2904480"/>
                <a:chExt cx="1063440" cy="6778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914000" y="2904480"/>
                  <a:ext cx="89604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830480" y="2904480"/>
                  <a:ext cx="106344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894280" y="2904480"/>
                <a:ext cx="1017000" cy="677880"/>
                <a:chOff x="5894280" y="2904480"/>
                <a:chExt cx="1017000" cy="6778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978160" y="2904480"/>
                  <a:ext cx="84888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894280" y="2904480"/>
                  <a:ext cx="101700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911640" y="2904480"/>
                <a:ext cx="987120" cy="677880"/>
                <a:chOff x="6911640" y="2904480"/>
                <a:chExt cx="987120" cy="6778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995160" y="2904480"/>
                  <a:ext cx="81936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911640" y="2904480"/>
                  <a:ext cx="98712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7899480" y="2904480"/>
                <a:ext cx="1010880" cy="677880"/>
                <a:chOff x="7899480" y="2904480"/>
                <a:chExt cx="1010880" cy="6778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983360" y="2904480"/>
                  <a:ext cx="843120" cy="67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9480" y="2904480"/>
                  <a:ext cx="1010880" cy="67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960" y="3582360"/>
                <a:ext cx="2639160" cy="469080"/>
                <a:chOff x="3960" y="3582360"/>
                <a:chExt cx="2639160" cy="4690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87840" y="358236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areer-related: Sponsorship of mentee’s career development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960" y="358236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2643480" y="3582360"/>
                <a:ext cx="1092600" cy="469080"/>
                <a:chOff x="2643480" y="3582360"/>
                <a:chExt cx="1092600" cy="4690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727360" y="35823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43480" y="358236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736800" y="3582360"/>
                <a:ext cx="1092960" cy="469080"/>
                <a:chOff x="3736800" y="3582360"/>
                <a:chExt cx="1092960" cy="469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20680" y="35823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736800" y="358236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830480" y="3582360"/>
                <a:ext cx="1063440" cy="469080"/>
                <a:chOff x="4830480" y="3582360"/>
                <a:chExt cx="1063440" cy="4690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914000" y="358236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830480" y="358236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894280" y="3582360"/>
                <a:ext cx="1017000" cy="469080"/>
                <a:chOff x="5894280" y="3582360"/>
                <a:chExt cx="1017000" cy="4690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978160" y="358236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94280" y="358236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911640" y="3582360"/>
                <a:ext cx="987120" cy="469080"/>
                <a:chOff x="6911640" y="3582360"/>
                <a:chExt cx="987120" cy="4690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995160" y="358236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11640" y="358236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899480" y="3582360"/>
                <a:ext cx="1010880" cy="469080"/>
                <a:chOff x="7899480" y="3582360"/>
                <a:chExt cx="1010880" cy="4690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983360" y="358236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899480" y="358236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960" y="4051800"/>
                <a:ext cx="2639160" cy="365040"/>
                <a:chOff x="3960" y="4051800"/>
                <a:chExt cx="2639160" cy="365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87840" y="4051800"/>
                  <a:ext cx="24710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Role Modeling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960" y="4051800"/>
                  <a:ext cx="263916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643480" y="4051800"/>
                <a:ext cx="1092600" cy="365040"/>
                <a:chOff x="2643480" y="4051800"/>
                <a:chExt cx="1092600" cy="3650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727360" y="4051800"/>
                  <a:ext cx="9248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643480" y="4051800"/>
                  <a:ext cx="1092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736800" y="4051800"/>
                <a:ext cx="1092960" cy="365040"/>
                <a:chOff x="3736800" y="4051800"/>
                <a:chExt cx="1092960" cy="3650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820680" y="4051800"/>
                  <a:ext cx="9248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736800" y="4051800"/>
                  <a:ext cx="109296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830480" y="4051800"/>
                <a:ext cx="1063440" cy="365040"/>
                <a:chOff x="4830480" y="4051800"/>
                <a:chExt cx="1063440" cy="3650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914000" y="4051800"/>
                  <a:ext cx="8960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830480" y="4051800"/>
                  <a:ext cx="106344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894280" y="4051800"/>
                <a:ext cx="1017000" cy="365040"/>
                <a:chOff x="5894280" y="4051800"/>
                <a:chExt cx="1017000" cy="365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978160" y="4051800"/>
                  <a:ext cx="8488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894280" y="4051800"/>
                  <a:ext cx="10170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911640" y="4051800"/>
                <a:ext cx="987120" cy="365040"/>
                <a:chOff x="6911640" y="4051800"/>
                <a:chExt cx="987120" cy="3650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995160" y="4051800"/>
                  <a:ext cx="819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911640" y="4051800"/>
                  <a:ext cx="9871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899480" y="4051800"/>
                <a:ext cx="1010880" cy="365040"/>
                <a:chOff x="7899480" y="4051800"/>
                <a:chExt cx="1010880" cy="3650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83360" y="4051800"/>
                  <a:ext cx="8431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899480" y="4051800"/>
                  <a:ext cx="101088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60" y="4416840"/>
                <a:ext cx="2639160" cy="469080"/>
                <a:chOff x="3960" y="4416840"/>
                <a:chExt cx="2639160" cy="4690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87840" y="441684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Counseling with work relationship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60" y="441684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643480" y="4416840"/>
                <a:ext cx="1092600" cy="469080"/>
                <a:chOff x="2643480" y="4416840"/>
                <a:chExt cx="1092600" cy="469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727360" y="441684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43480" y="441684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736800" y="4416840"/>
                <a:ext cx="1092960" cy="469080"/>
                <a:chOff x="3736800" y="4416840"/>
                <a:chExt cx="1092960" cy="469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820680" y="441684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736800" y="441684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830480" y="4416840"/>
                <a:ext cx="1063440" cy="469080"/>
                <a:chOff x="4830480" y="4416840"/>
                <a:chExt cx="1063440" cy="469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14000" y="441684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830480" y="441684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894280" y="4416840"/>
                <a:ext cx="1017000" cy="469080"/>
                <a:chOff x="5894280" y="4416840"/>
                <a:chExt cx="1017000" cy="4690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978160" y="441684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894280" y="441684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911640" y="4416840"/>
                <a:ext cx="987120" cy="469080"/>
                <a:chOff x="6911640" y="4416840"/>
                <a:chExt cx="987120" cy="469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995160" y="441684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11640" y="441684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899480" y="4416840"/>
                <a:ext cx="1010880" cy="469080"/>
                <a:chOff x="7899480" y="4416840"/>
                <a:chExt cx="1010880" cy="469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83360" y="441684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99480" y="441684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960" y="4886280"/>
                <a:ext cx="2639160" cy="573480"/>
                <a:chOff x="3960" y="4886280"/>
                <a:chExt cx="2639160" cy="5734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7840" y="4886280"/>
                  <a:ext cx="2471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Counseling on developing work/career-related competencies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60" y="4886280"/>
                  <a:ext cx="26391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2643480" y="4886280"/>
                <a:ext cx="1092600" cy="573480"/>
                <a:chOff x="2643480" y="4886280"/>
                <a:chExt cx="1092600" cy="573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727360" y="488628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43480" y="4886280"/>
                  <a:ext cx="10926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736800" y="4886280"/>
                <a:ext cx="1092960" cy="573480"/>
                <a:chOff x="3736800" y="4886280"/>
                <a:chExt cx="1092960" cy="573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820680" y="4886280"/>
                  <a:ext cx="9248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736800" y="4886280"/>
                  <a:ext cx="109296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830480" y="4886280"/>
                <a:ext cx="1063440" cy="573480"/>
                <a:chOff x="4830480" y="4886280"/>
                <a:chExt cx="1063440" cy="573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914000" y="4886280"/>
                  <a:ext cx="89604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a021a"/>
                      </a:solidFill>
                      <a:latin typeface="Tahoma"/>
                    </a:rPr>
                    <a:t>-</a:t>
                  </a:r>
                  <a:endParaRPr b="0" lang="en-US" sz="2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30480" y="4886280"/>
                  <a:ext cx="106344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894280" y="4886280"/>
                <a:ext cx="1017000" cy="573480"/>
                <a:chOff x="5894280" y="4886280"/>
                <a:chExt cx="1017000" cy="573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978160" y="4886280"/>
                  <a:ext cx="84888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94280" y="4886280"/>
                  <a:ext cx="101700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911640" y="4886280"/>
                <a:ext cx="987120" cy="573480"/>
                <a:chOff x="6911640" y="4886280"/>
                <a:chExt cx="987120" cy="573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995160" y="4886280"/>
                  <a:ext cx="81936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911640" y="4886280"/>
                  <a:ext cx="98712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899480" y="4886280"/>
                <a:ext cx="1010880" cy="573480"/>
                <a:chOff x="7899480" y="4886280"/>
                <a:chExt cx="1010880" cy="573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983360" y="4886280"/>
                  <a:ext cx="843120" cy="57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99480" y="4886280"/>
                  <a:ext cx="1010880" cy="57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960" y="5460120"/>
                <a:ext cx="2639160" cy="469080"/>
                <a:chOff x="3960" y="5460120"/>
                <a:chExt cx="2639160" cy="4690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87840" y="546012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Counseling with work-family balance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60" y="546012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643480" y="5460120"/>
                <a:ext cx="1092600" cy="469080"/>
                <a:chOff x="2643480" y="5460120"/>
                <a:chExt cx="1092600" cy="4690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727360" y="546012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643480" y="546012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736800" y="5460120"/>
                <a:ext cx="1092960" cy="469080"/>
                <a:chOff x="3736800" y="5460120"/>
                <a:chExt cx="1092960" cy="4690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820680" y="546012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736800" y="546012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830480" y="5460120"/>
                <a:ext cx="1063440" cy="469080"/>
                <a:chOff x="4830480" y="5460120"/>
                <a:chExt cx="1063440" cy="4690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914000" y="546012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830480" y="546012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894280" y="5460120"/>
                <a:ext cx="1017000" cy="469080"/>
                <a:chOff x="5894280" y="5460120"/>
                <a:chExt cx="1017000" cy="4690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978160" y="546012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894280" y="546012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6911640" y="5460120"/>
                <a:ext cx="987120" cy="469080"/>
                <a:chOff x="6911640" y="5460120"/>
                <a:chExt cx="987120" cy="4690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995160" y="546012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f89f7"/>
                      </a:solidFill>
                      <a:latin typeface="Tahoma"/>
                    </a:rPr>
                    <a:t>0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911640" y="546012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7899480" y="5460120"/>
                <a:ext cx="1010880" cy="469080"/>
                <a:chOff x="7899480" y="5460120"/>
                <a:chExt cx="1010880" cy="4690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983360" y="546012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99480" y="546012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5929560"/>
                <a:ext cx="2639160" cy="469080"/>
                <a:chOff x="3960" y="5929560"/>
                <a:chExt cx="2639160" cy="4690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87840" y="5929560"/>
                  <a:ext cx="2471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sychosocial: General acceptance and confirmation 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5929560"/>
                  <a:ext cx="26391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43480" y="5929560"/>
                <a:ext cx="1092600" cy="469080"/>
                <a:chOff x="2643480" y="5929560"/>
                <a:chExt cx="1092600" cy="4690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27360" y="59295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43480" y="5929560"/>
                  <a:ext cx="10926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736800" y="5929560"/>
                <a:ext cx="1092960" cy="469080"/>
                <a:chOff x="3736800" y="5929560"/>
                <a:chExt cx="1092960" cy="4690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820680" y="5929560"/>
                  <a:ext cx="92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36800" y="5929560"/>
                  <a:ext cx="10929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30480" y="5929560"/>
                <a:ext cx="1063440" cy="469080"/>
                <a:chOff x="4830480" y="5929560"/>
                <a:chExt cx="1063440" cy="4690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4914000" y="5929560"/>
                  <a:ext cx="8960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30480" y="5929560"/>
                  <a:ext cx="106344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894280" y="5929560"/>
                <a:ext cx="1017000" cy="469080"/>
                <a:chOff x="5894280" y="5929560"/>
                <a:chExt cx="1017000" cy="4690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78160" y="5929560"/>
                  <a:ext cx="848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894280" y="5929560"/>
                  <a:ext cx="101700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911640" y="5929560"/>
                <a:ext cx="987120" cy="469080"/>
                <a:chOff x="6911640" y="5929560"/>
                <a:chExt cx="987120" cy="4690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995160" y="5929560"/>
                  <a:ext cx="819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911640" y="5929560"/>
                  <a:ext cx="9871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7899480" y="5929560"/>
                <a:ext cx="1010880" cy="469080"/>
                <a:chOff x="7899480" y="5929560"/>
                <a:chExt cx="1010880" cy="4690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83360" y="5929560"/>
                  <a:ext cx="84312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9105"/>
                      </a:solidFill>
                      <a:latin typeface="Tahoma"/>
                    </a:rPr>
                    <a:t>+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899480" y="5929560"/>
                  <a:ext cx="101088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0" y="0"/>
              <a:ext cx="8915040" cy="64008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28600" y="9360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atrix of Types of Developers and Development Functions in Organizational Socializ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" y="6400800"/>
            <a:ext cx="8915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Chao, in  press)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+”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= likely function for this type of developer, “0” = possible function for this type of developer, “-” = unlikely function for this type of developer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ice to Potential Mente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t mentors!  Internal mentors help with curren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rganizational issues. External mentors help with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rger career issues and future organization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ves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e mentor is unlikely to fulfill all development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proact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opt a learning ori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t SMART developmental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asur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ttain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505320" y="5334120"/>
            <a:ext cx="31399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leva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me-bou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6765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ole of Mentees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ek counsel and advice, not a supervisor wh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rects a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aware of potential pitfalls: Overbear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, mentor exploitation of mentee’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rk. Be sensitive to the differen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tween asking for help/advice from you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 and demanding favors from you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ynthesize lessons learned from al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ors – become your own pers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cognize dynamics of relationshi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ice to Potential Men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cognize that mentee may be uncomfortabl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king for help – break ice by sharing some of you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y in your zone of expertise/exper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clear that mentee sets pace of relationsh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vise, do not man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tend mentee’s developmental network – suggest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ditional mentors to address unique nee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ole of Men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ffer advice that helps mentee develop –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le is NOT to make decisions for mentee o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croman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in to be efficient. Guidance and advice for o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may also be appropriate for another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aware of potential pitfalls: overdependence of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, mentee exploitation of mentor’s influenc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sensitive to difference between developing 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and using a mente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 aware of dynamics of relationship: Development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eds may chan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Distance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 to use e-ma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 e-mail to set up meetings (face-to-face or phone), clarify plans/goals, pose non-time urgent questions, review plans, maintain contac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on’t use e-mail to give critical or complex feedback, provide impressions of other’s behavior, provide impressions of third parties, exchange sensitive informa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munication Challe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sten for nonverbal cues (e.g., pregnant pauses, voice tone, tempo, volum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sh for specific information, clarify meaning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mmarize agre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shi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mentor is an individual with experti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o can help develop the career of 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ee.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mentor guides, trains, advi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d promotes the career development of th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nte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types of mentoring func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so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fter the Program En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ny relationships come to a natural end when 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learns enough to be independent from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pecific mento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 mentoring relationships with others may b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beneficial than continuing an exhaust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lationshi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gram end may not mean the end of th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lationship – informal mentoring can continue if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oth parties agre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ilot program will assess how mentoring met need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f both mentees and mento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814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ing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areer Functions: Help the mentee learn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opes and prepare for caree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vance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llenging assignm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osure and vis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t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Mentoring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social Functions: Help the mente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velop a sense of competence and clarit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f ident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le-Model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ceptance and confi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iendship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tages of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itia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ultiva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para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definition St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t all stages are beneficial to the mentor or to the mente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antages of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vantages for the mente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 advan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ala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rganizational/professional identif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vantages for the mento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eer enhan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ssing the torch to a new genera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from mentee – new technologies, new developments, important features of next gene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Disadvantages of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advantages for the mente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verdependence on the men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cro-management from the men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gative halo from mentor who fai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advantages for the mento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ee dependence on men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me, energy commitment to ment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gative halo from mentee who fai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Problems With Cross-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Gender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st common form of business mentoring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le mentor and male mente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ther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le mentor and female mentee (most comm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male mentor and male ment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male mentor and female mentee (rar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dvice for Same-Gender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nd Cross-Gender Mento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eep relationship profess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e sensitive to other people’s reactions and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tential rumo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void perception of personal relation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et in public ven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nsparency of relationsh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16:07:28Z</dcterms:created>
  <dc:creator>Eli Broad College of Business</dc:creator>
  <dc:description/>
  <dc:language>en-US</dc:language>
  <cp:lastModifiedBy>Casey Ann Reever</cp:lastModifiedBy>
  <dcterms:modified xsi:type="dcterms:W3CDTF">2006-07-31T20:16:24Z</dcterms:modified>
  <cp:revision>21</cp:revision>
  <dc:subject/>
  <dc:title>Mentoring</dc:title>
</cp:coreProperties>
</file>