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206400" cy="36576000"/>
  <p:notesSz cx="49525238" cy="35758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9525200" cy="35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1459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8050840" y="-360"/>
            <a:ext cx="214614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5376680" y="2682360"/>
            <a:ext cx="18770400" cy="1340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951440" y="16984800"/>
            <a:ext cx="39620880" cy="160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33962760"/>
            <a:ext cx="21459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28050840" y="33962760"/>
            <a:ext cx="214614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A199-0DEB-40C0-A70D-6F5C3A2BB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28051200" y="33963120"/>
            <a:ext cx="2146140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5BB7-62CE-42DB-9D95-662E8A726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5376680" y="2682720"/>
            <a:ext cx="18770400" cy="134082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951440" y="16984800"/>
            <a:ext cx="39620880" cy="160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B28-D6D8-41A5-81FF-F93F0977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4353552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35440" y="22032360"/>
            <a:ext cx="4353552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87C-8004-40E8-A69E-D55CE9C1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3544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4320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52D-2DB0-4728-887F-AAB1920F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554760" y="1057284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274080" y="1057284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35440" y="2203236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554760" y="2203236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274080" y="2203236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CE4-4CE0-4E6A-BABE-01688F28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35440" y="10572840"/>
            <a:ext cx="43535520" cy="219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FA5-31F7-464F-90D8-BFFD606D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4353552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EC3-6491-4C2C-8863-9446BEB0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D60-C1B4-486B-8265-369BE478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5CC-B017-40B8-BA40-48A0C7D4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35440" y="3258720"/>
            <a:ext cx="43535520" cy="282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25"/>
              </a:spcBef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5C0-1F59-4531-9F2D-8429D7D4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3544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4F8-F62A-4FCC-8F37-BDF47CAF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14320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EFB-2463-4B43-B3EA-7180E07A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35440" y="22032360"/>
            <a:ext cx="4353552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536-7521-4EE4-A4C2-E0B4FAA7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5440" y="10572840"/>
            <a:ext cx="4353552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marL="1120680" indent="-1120680">
              <a:spcBef>
                <a:spcPts val="2625"/>
              </a:spcBef>
              <a:buClr>
                <a:srgbClr val="000000"/>
              </a:buClr>
              <a:buFont typeface="Times New Roman"/>
              <a:buChar char="•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1" marL="2430360" indent="-931680">
              <a:spcBef>
                <a:spcPts val="2625"/>
              </a:spcBef>
              <a:buClr>
                <a:srgbClr val="000000"/>
              </a:buClr>
              <a:buFont typeface="Times New Roman"/>
              <a:buChar char="–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2" marL="3736800" indent="-742680">
              <a:spcBef>
                <a:spcPts val="2625"/>
              </a:spcBef>
              <a:buClr>
                <a:srgbClr val="000000"/>
              </a:buClr>
              <a:buFont typeface="Times New Roman"/>
              <a:buChar char="•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3" marL="523224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–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4" marL="672768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»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5" marL="672768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»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6" marL="672768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»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35080" y="33316560"/>
            <a:ext cx="10667880" cy="2454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00680" y="33316560"/>
            <a:ext cx="16205040" cy="2454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702720" y="33316560"/>
            <a:ext cx="10667880" cy="2454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96CB-1454-4EA1-B3BC-9A8280146E67}" type="slidenum"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5"/>
          <p:cNvSpPr/>
          <p:nvPr/>
        </p:nvSpPr>
        <p:spPr>
          <a:xfrm>
            <a:off x="0" y="4402080"/>
            <a:ext cx="51206400" cy="321739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3"/>
          <p:cNvSpPr/>
          <p:nvPr/>
        </p:nvSpPr>
        <p:spPr>
          <a:xfrm>
            <a:off x="18821520" y="23774400"/>
            <a:ext cx="15544800" cy="11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2"/>
          <p:cNvSpPr/>
          <p:nvPr/>
        </p:nvSpPr>
        <p:spPr>
          <a:xfrm>
            <a:off x="37185480" y="25298280"/>
            <a:ext cx="12573000" cy="1028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1"/>
          <p:cNvSpPr/>
          <p:nvPr/>
        </p:nvSpPr>
        <p:spPr>
          <a:xfrm>
            <a:off x="1828800" y="18516600"/>
            <a:ext cx="14020920" cy="1516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8"/>
          <p:cNvSpPr/>
          <p:nvPr/>
        </p:nvSpPr>
        <p:spPr>
          <a:xfrm>
            <a:off x="1828800" y="5410080"/>
            <a:ext cx="14020920" cy="1104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7"/>
          <p:cNvSpPr/>
          <p:nvPr/>
        </p:nvSpPr>
        <p:spPr>
          <a:xfrm>
            <a:off x="18745200" y="5334120"/>
            <a:ext cx="15621120" cy="1706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4"/>
          <p:cNvSpPr/>
          <p:nvPr/>
        </p:nvSpPr>
        <p:spPr>
          <a:xfrm>
            <a:off x="14020920" y="0"/>
            <a:ext cx="25374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3639680" y="0"/>
            <a:ext cx="2659392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8800" rIns="298800" tIns="149400" bIns="1494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itle Goes Her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(student name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(affiliation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133720" y="19623240"/>
            <a:ext cx="1303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666880" y="6095880"/>
            <a:ext cx="12497040" cy="15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9354680" y="6010200"/>
            <a:ext cx="1440180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7"/>
          <p:cNvSpPr/>
          <p:nvPr/>
        </p:nvSpPr>
        <p:spPr>
          <a:xfrm>
            <a:off x="37109520" y="25222320"/>
            <a:ext cx="1211580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marL="457200" indent="-457200"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1"/>
          <p:cNvSpPr/>
          <p:nvPr/>
        </p:nvSpPr>
        <p:spPr>
          <a:xfrm>
            <a:off x="18973800" y="23774400"/>
            <a:ext cx="151639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marL="457200" indent="-457200"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5"/>
          <p:cNvSpPr/>
          <p:nvPr/>
        </p:nvSpPr>
        <p:spPr>
          <a:xfrm>
            <a:off x="37109520" y="15925680"/>
            <a:ext cx="967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24"/>
          <p:cNvSpPr/>
          <p:nvPr/>
        </p:nvSpPr>
        <p:spPr>
          <a:xfrm>
            <a:off x="37172880" y="5334120"/>
            <a:ext cx="11899800" cy="807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5"/>
          <p:cNvSpPr/>
          <p:nvPr/>
        </p:nvSpPr>
        <p:spPr>
          <a:xfrm>
            <a:off x="37249200" y="15392520"/>
            <a:ext cx="11899800" cy="807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14:14:01Z</dcterms:created>
  <dc:creator>Daniel/Alyson Cantey</dc:creator>
  <dc:description/>
  <dc:language>en-US</dc:language>
  <cp:lastModifiedBy>Leary, Emily</cp:lastModifiedBy>
  <dcterms:modified xsi:type="dcterms:W3CDTF">2012-04-17T16:46:51Z</dcterms:modified>
  <cp:revision>72</cp:revision>
  <dc:subject/>
  <dc:title>PowerPoint Presentation</dc:title>
</cp:coreProperties>
</file>