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1206400" cy="36576000"/>
  <p:notesSz cx="49525238" cy="35758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49525200" cy="357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145996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28050840" y="-360"/>
            <a:ext cx="2146140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5376680" y="2682360"/>
            <a:ext cx="18770400" cy="1340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951440" y="16984800"/>
            <a:ext cx="39620880" cy="160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33962760"/>
            <a:ext cx="2145996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28050840" y="33962760"/>
            <a:ext cx="2146140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F9A9-0E8D-41DF-87AD-9A022BF5E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28051200" y="33963120"/>
            <a:ext cx="2146140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E296-E09F-40BD-A503-F7031791D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5376680" y="2682720"/>
            <a:ext cx="18770400" cy="134082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951440" y="16984800"/>
            <a:ext cx="39620880" cy="160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362E-E3F6-4E99-84D7-A18A26B5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35440" y="10572840"/>
            <a:ext cx="4353552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35440" y="22032360"/>
            <a:ext cx="4353552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708B-692F-459C-BEF8-20691599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35440" y="10572840"/>
            <a:ext cx="21245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143200" y="10572840"/>
            <a:ext cx="21245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35440" y="22032360"/>
            <a:ext cx="21245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143200" y="22032360"/>
            <a:ext cx="21245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E5CC-52A1-4ACA-9DBC-234157AE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35440" y="10572840"/>
            <a:ext cx="14018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554760" y="10572840"/>
            <a:ext cx="14018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274080" y="10572840"/>
            <a:ext cx="14018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35440" y="22032360"/>
            <a:ext cx="14018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554760" y="22032360"/>
            <a:ext cx="14018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274080" y="22032360"/>
            <a:ext cx="14018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1A08-D8AE-417B-AA89-5114DBD8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35440" y="10572840"/>
            <a:ext cx="43535520" cy="219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25"/>
              </a:spcBef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878B-F415-4EE2-AC5E-464AD9F9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35440" y="10572840"/>
            <a:ext cx="43535520" cy="2193912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9E4D-8C71-41AC-88B1-B0F06FF7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35440" y="10572840"/>
            <a:ext cx="21245040" cy="2193912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143200" y="10572840"/>
            <a:ext cx="21245040" cy="2193912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27FF-D247-4327-9200-6176F5FE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B0CA-B7FE-40BF-A3F1-83BC0572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35440" y="3258720"/>
            <a:ext cx="43535520" cy="2825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625"/>
              </a:spcBef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25E9-730C-4445-A44B-DE795074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35440" y="10572840"/>
            <a:ext cx="21245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143200" y="10572840"/>
            <a:ext cx="21245040" cy="2193912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35440" y="22032360"/>
            <a:ext cx="21245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B2F8-BE8C-418C-AA44-FD2BAD4E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35440" y="10572840"/>
            <a:ext cx="21245040" cy="2193912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143200" y="10572840"/>
            <a:ext cx="21245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143200" y="22032360"/>
            <a:ext cx="21245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6594-B2B2-4FD5-8E04-021D20D6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35440" y="10572840"/>
            <a:ext cx="21245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143200" y="10572840"/>
            <a:ext cx="2124504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35440" y="22032360"/>
            <a:ext cx="43535520" cy="1046484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indent="0">
              <a:spcBef>
                <a:spcPts val="2625"/>
              </a:spcBef>
              <a:buNone/>
              <a:tabLst>
                <a:tab algn="l" pos="2994120"/>
                <a:tab algn="l" pos="5987880"/>
                <a:tab algn="l" pos="8982000"/>
              </a:tabLst>
            </a:pP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436C-D026-4D5E-86F8-32DF5B8B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35440" y="3258720"/>
            <a:ext cx="43535520" cy="609588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ctr">
            <a:noAutofit/>
          </a:bodyPr>
          <a:p>
            <a:pPr indent="0" algn="ctr">
              <a:buNone/>
              <a:tabLst>
                <a:tab algn="l" pos="0"/>
                <a:tab algn="l" pos="2994120"/>
                <a:tab algn="l" pos="5987880"/>
                <a:tab algn="l" pos="89820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35440" y="10572840"/>
            <a:ext cx="43535520" cy="2193912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rmAutofit/>
          </a:bodyPr>
          <a:p>
            <a:pPr marL="1120680" indent="-1120680">
              <a:spcBef>
                <a:spcPts val="2625"/>
              </a:spcBef>
              <a:buClr>
                <a:srgbClr val="000000"/>
              </a:buClr>
              <a:buFont typeface="Times New Roman"/>
              <a:buChar char="•"/>
              <a:tabLst>
                <a:tab algn="l" pos="2994120"/>
                <a:tab algn="l" pos="5987880"/>
                <a:tab algn="l" pos="898200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  <a:p>
            <a:pPr lvl="1" marL="2430360" indent="-931680">
              <a:spcBef>
                <a:spcPts val="2625"/>
              </a:spcBef>
              <a:buClr>
                <a:srgbClr val="000000"/>
              </a:buClr>
              <a:buFont typeface="Times New Roman"/>
              <a:buChar char="–"/>
              <a:tabLst>
                <a:tab algn="l" pos="2994120"/>
                <a:tab algn="l" pos="5987880"/>
                <a:tab algn="l" pos="898200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  <a:p>
            <a:pPr lvl="2" marL="3736800" indent="-742680">
              <a:spcBef>
                <a:spcPts val="2625"/>
              </a:spcBef>
              <a:buClr>
                <a:srgbClr val="000000"/>
              </a:buClr>
              <a:buFont typeface="Times New Roman"/>
              <a:buChar char="•"/>
              <a:tabLst>
                <a:tab algn="l" pos="2994120"/>
                <a:tab algn="l" pos="5987880"/>
                <a:tab algn="l" pos="898200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  <a:p>
            <a:pPr lvl="3" marL="5232240" indent="-747720">
              <a:spcBef>
                <a:spcPts val="2625"/>
              </a:spcBef>
              <a:buClr>
                <a:srgbClr val="000000"/>
              </a:buClr>
              <a:buFont typeface="Times New Roman"/>
              <a:buChar char="–"/>
              <a:tabLst>
                <a:tab algn="l" pos="2994120"/>
                <a:tab algn="l" pos="5987880"/>
                <a:tab algn="l" pos="898200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  <a:p>
            <a:pPr lvl="4" marL="6727680" indent="-747720">
              <a:spcBef>
                <a:spcPts val="2625"/>
              </a:spcBef>
              <a:buClr>
                <a:srgbClr val="000000"/>
              </a:buClr>
              <a:buFont typeface="Times New Roman"/>
              <a:buChar char="»"/>
              <a:tabLst>
                <a:tab algn="l" pos="2994120"/>
                <a:tab algn="l" pos="5987880"/>
                <a:tab algn="l" pos="898200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  <a:p>
            <a:pPr lvl="5" marL="6727680" indent="-747720">
              <a:spcBef>
                <a:spcPts val="2625"/>
              </a:spcBef>
              <a:buClr>
                <a:srgbClr val="000000"/>
              </a:buClr>
              <a:buFont typeface="Times New Roman"/>
              <a:buChar char="»"/>
              <a:tabLst>
                <a:tab algn="l" pos="2994120"/>
                <a:tab algn="l" pos="5987880"/>
                <a:tab algn="l" pos="898200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  <a:p>
            <a:pPr lvl="6" marL="6727680" indent="-747720">
              <a:spcBef>
                <a:spcPts val="2625"/>
              </a:spcBef>
              <a:buClr>
                <a:srgbClr val="000000"/>
              </a:buClr>
              <a:buFont typeface="Times New Roman"/>
              <a:buChar char="»"/>
              <a:tabLst>
                <a:tab algn="l" pos="2994120"/>
                <a:tab algn="l" pos="5987880"/>
                <a:tab algn="l" pos="8982000"/>
              </a:tabLst>
            </a:pPr>
            <a:r>
              <a:rPr b="0" lang="en-US" sz="10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35080" y="33316560"/>
            <a:ext cx="10667880" cy="245412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00680" y="33316560"/>
            <a:ext cx="16205040" cy="245412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702720" y="33316560"/>
            <a:ext cx="10667880" cy="2454120"/>
          </a:xfrm>
          <a:prstGeom prst="rect">
            <a:avLst/>
          </a:prstGeom>
          <a:noFill/>
          <a:ln w="0">
            <a:noFill/>
          </a:ln>
        </p:spPr>
        <p:txBody>
          <a:bodyPr lIns="298800" rIns="298800" tIns="149400" bIns="149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1E0B-CE4F-4755-85EA-499A757D8B4A}" type="slidenum"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5"/>
          <p:cNvSpPr/>
          <p:nvPr/>
        </p:nvSpPr>
        <p:spPr>
          <a:xfrm>
            <a:off x="0" y="4402080"/>
            <a:ext cx="51206400" cy="321739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3"/>
          <p:cNvSpPr/>
          <p:nvPr/>
        </p:nvSpPr>
        <p:spPr>
          <a:xfrm>
            <a:off x="18821520" y="23774400"/>
            <a:ext cx="15544800" cy="112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2"/>
          <p:cNvSpPr/>
          <p:nvPr/>
        </p:nvSpPr>
        <p:spPr>
          <a:xfrm>
            <a:off x="37185480" y="25298280"/>
            <a:ext cx="12573000" cy="1028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1"/>
          <p:cNvSpPr/>
          <p:nvPr/>
        </p:nvSpPr>
        <p:spPr>
          <a:xfrm>
            <a:off x="1828800" y="18516600"/>
            <a:ext cx="14020920" cy="1516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8"/>
          <p:cNvSpPr/>
          <p:nvPr/>
        </p:nvSpPr>
        <p:spPr>
          <a:xfrm>
            <a:off x="1828800" y="5410080"/>
            <a:ext cx="14020920" cy="1104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7"/>
          <p:cNvSpPr/>
          <p:nvPr/>
        </p:nvSpPr>
        <p:spPr>
          <a:xfrm>
            <a:off x="18745200" y="5334120"/>
            <a:ext cx="15621120" cy="1706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4"/>
          <p:cNvSpPr/>
          <p:nvPr/>
        </p:nvSpPr>
        <p:spPr>
          <a:xfrm>
            <a:off x="14020920" y="0"/>
            <a:ext cx="253746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13639680" y="0"/>
            <a:ext cx="26593920" cy="40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8800" rIns="298800" tIns="149400" bIns="1494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Title Goes Her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(student names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(affiliation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133720" y="19623240"/>
            <a:ext cx="1303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666880" y="6095880"/>
            <a:ext cx="12497040" cy="15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9354680" y="6010200"/>
            <a:ext cx="1440180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7"/>
          <p:cNvSpPr/>
          <p:nvPr/>
        </p:nvSpPr>
        <p:spPr>
          <a:xfrm>
            <a:off x="37109520" y="25222320"/>
            <a:ext cx="1211580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marL="457200" indent="-457200"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11"/>
          <p:cNvSpPr/>
          <p:nvPr/>
        </p:nvSpPr>
        <p:spPr>
          <a:xfrm>
            <a:off x="18973800" y="23774400"/>
            <a:ext cx="1516392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marL="457200" indent="-457200"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15"/>
          <p:cNvSpPr/>
          <p:nvPr/>
        </p:nvSpPr>
        <p:spPr>
          <a:xfrm>
            <a:off x="37109520" y="15925680"/>
            <a:ext cx="967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24"/>
          <p:cNvSpPr/>
          <p:nvPr/>
        </p:nvSpPr>
        <p:spPr>
          <a:xfrm>
            <a:off x="37172880" y="5334120"/>
            <a:ext cx="11899800" cy="807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25"/>
          <p:cNvSpPr/>
          <p:nvPr/>
        </p:nvSpPr>
        <p:spPr>
          <a:xfrm>
            <a:off x="37249200" y="15392520"/>
            <a:ext cx="11899800" cy="807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5T14:14:01Z</dcterms:created>
  <dc:creator>Daniel/Alyson Cantey</dc:creator>
  <dc:description/>
  <dc:language>en-US</dc:language>
  <cp:lastModifiedBy>Leary, Emily</cp:lastModifiedBy>
  <dcterms:modified xsi:type="dcterms:W3CDTF">2012-04-17T16:46:51Z</dcterms:modified>
  <cp:revision>72</cp:revision>
  <dc:subject/>
  <dc:title>PowerPoint Presentation</dc:title>
</cp:coreProperties>
</file>