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206400" cy="36576000"/>
  <p:notesSz cx="49525238" cy="35758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9525200" cy="35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8050840" y="-3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76680" y="2682360"/>
            <a:ext cx="18770400" cy="134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339627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8050840" y="339627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960-45E0-4E1D-994D-35F08E8C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28051200" y="33963120"/>
            <a:ext cx="214614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99B-E5F9-487E-BACF-7C919D5E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5376680" y="2682720"/>
            <a:ext cx="18770400" cy="13408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BA4-9A6C-477D-B542-24CB44AF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E68-B0D4-47FF-817C-212C733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D4-6769-480A-86E2-BED1619C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476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408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544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476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408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681-F35D-4EA1-9821-EDC424D3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B6F-9E0F-4CA4-9F6D-8371A24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061-C404-4689-B787-A0E7B241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772-FC88-49FB-B15B-CD51BDFA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5B6-B03B-4DBA-890A-E23D1FF9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35440" y="3258720"/>
            <a:ext cx="4353552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4C5-C527-4A68-B948-B326FFB7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C9D-AB59-41DD-9386-C65B693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19A-E453-4335-9FC9-9C8C1DB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A43-39FD-4246-8042-972DC3A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marL="1120680" indent="-1120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0360" indent="-93168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2" marL="3736800" indent="-742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3" marL="523224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4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5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6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508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00680" y="33316560"/>
            <a:ext cx="1620504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70272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0E0-5120-4303-94F9-D1F47A2BE1FE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09480"/>
            <a:ext cx="51206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8800" rIns="298800" tIns="149400" bIns="149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Garamond"/>
              </a:rPr>
              <a:t>Title Goes Here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Name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5500" spc="-1" strike="noStrike">
                <a:solidFill>
                  <a:srgbClr val="000000"/>
                </a:solidFill>
                <a:latin typeface="Garamond"/>
              </a:rPr>
              <a:t>Nam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affiliation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en-US" sz="5500" spc="-1" strike="noStrike">
                <a:solidFill>
                  <a:srgbClr val="000000"/>
                </a:solidFill>
                <a:latin typeface="Garamond"/>
              </a:rPr>
              <a:t>              affiliation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66"/>
          <p:cNvGrpSpPr/>
          <p:nvPr/>
        </p:nvGrpSpPr>
        <p:grpSpPr>
          <a:xfrm>
            <a:off x="1827360" y="5483160"/>
            <a:ext cx="16453800" cy="1249560"/>
            <a:chOff x="1827360" y="5483160"/>
            <a:chExt cx="16453800" cy="1249560"/>
          </a:xfrm>
        </p:grpSpPr>
        <p:sp>
          <p:nvSpPr>
            <p:cNvPr id="50" name="Text Box 67"/>
            <p:cNvSpPr/>
            <p:nvPr/>
          </p:nvSpPr>
          <p:spPr>
            <a:xfrm>
              <a:off x="2203560" y="5635800"/>
              <a:ext cx="16077600" cy="109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68"/>
            <p:cNvSpPr/>
            <p:nvPr/>
          </p:nvSpPr>
          <p:spPr>
            <a:xfrm>
              <a:off x="1827360" y="5483160"/>
              <a:ext cx="16079760" cy="1096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Introduction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66"/>
          <p:cNvGrpSpPr/>
          <p:nvPr/>
        </p:nvGrpSpPr>
        <p:grpSpPr>
          <a:xfrm>
            <a:off x="1827360" y="14625720"/>
            <a:ext cx="16453800" cy="1248840"/>
            <a:chOff x="1827360" y="14625720"/>
            <a:chExt cx="16453800" cy="1248840"/>
          </a:xfrm>
        </p:grpSpPr>
        <p:sp>
          <p:nvSpPr>
            <p:cNvPr id="53" name="Text Box 67"/>
            <p:cNvSpPr/>
            <p:nvPr/>
          </p:nvSpPr>
          <p:spPr>
            <a:xfrm>
              <a:off x="2203560" y="14778000"/>
              <a:ext cx="16077600" cy="1096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68"/>
            <p:cNvSpPr/>
            <p:nvPr/>
          </p:nvSpPr>
          <p:spPr>
            <a:xfrm>
              <a:off x="1827360" y="14625720"/>
              <a:ext cx="16079760" cy="109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Method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66"/>
          <p:cNvGrpSpPr/>
          <p:nvPr/>
        </p:nvGrpSpPr>
        <p:grpSpPr>
          <a:xfrm>
            <a:off x="19203840" y="19195920"/>
            <a:ext cx="14625360" cy="1249560"/>
            <a:chOff x="19203840" y="19195920"/>
            <a:chExt cx="14625360" cy="1249560"/>
          </a:xfrm>
        </p:grpSpPr>
        <p:sp>
          <p:nvSpPr>
            <p:cNvPr id="56" name="Text Box 67"/>
            <p:cNvSpPr/>
            <p:nvPr/>
          </p:nvSpPr>
          <p:spPr>
            <a:xfrm>
              <a:off x="19538280" y="19348560"/>
              <a:ext cx="14290920" cy="1096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8"/>
            <p:cNvSpPr/>
            <p:nvPr/>
          </p:nvSpPr>
          <p:spPr>
            <a:xfrm>
              <a:off x="19203840" y="19195920"/>
              <a:ext cx="14293080" cy="1096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Results &amp; Discussion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66"/>
          <p:cNvGrpSpPr/>
          <p:nvPr/>
        </p:nvGrpSpPr>
        <p:grpSpPr>
          <a:xfrm>
            <a:off x="34736040" y="22852080"/>
            <a:ext cx="14625360" cy="1248840"/>
            <a:chOff x="34736040" y="22852080"/>
            <a:chExt cx="14625360" cy="1248840"/>
          </a:xfrm>
        </p:grpSpPr>
        <p:sp>
          <p:nvSpPr>
            <p:cNvPr id="59" name="Text Box 67"/>
            <p:cNvSpPr/>
            <p:nvPr/>
          </p:nvSpPr>
          <p:spPr>
            <a:xfrm>
              <a:off x="35070480" y="23004360"/>
              <a:ext cx="14290920" cy="1096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68"/>
            <p:cNvSpPr/>
            <p:nvPr/>
          </p:nvSpPr>
          <p:spPr>
            <a:xfrm>
              <a:off x="34736040" y="22852080"/>
              <a:ext cx="14293080" cy="109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7000" spc="-1" strike="noStrike">
                  <a:solidFill>
                    <a:srgbClr val="ffffff"/>
                  </a:solidFill>
                  <a:latin typeface="Garamond"/>
                </a:rPr>
                <a:t>References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Line 59"/>
          <p:cNvSpPr/>
          <p:nvPr/>
        </p:nvSpPr>
        <p:spPr>
          <a:xfrm>
            <a:off x="0" y="228600"/>
            <a:ext cx="512064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9"/>
          <p:cNvSpPr/>
          <p:nvPr/>
        </p:nvSpPr>
        <p:spPr>
          <a:xfrm>
            <a:off x="0" y="4648320"/>
            <a:ext cx="512064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5"/>
          <p:cNvSpPr/>
          <p:nvPr/>
        </p:nvSpPr>
        <p:spPr>
          <a:xfrm>
            <a:off x="0" y="4386240"/>
            <a:ext cx="5120640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5"/>
          <p:cNvSpPr/>
          <p:nvPr/>
        </p:nvSpPr>
        <p:spPr>
          <a:xfrm>
            <a:off x="0" y="455760"/>
            <a:ext cx="5120640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7"/>
          <p:cNvSpPr/>
          <p:nvPr/>
        </p:nvSpPr>
        <p:spPr>
          <a:xfrm>
            <a:off x="19050120" y="31165920"/>
            <a:ext cx="14782680" cy="3047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8"/>
          <p:cNvSpPr/>
          <p:nvPr/>
        </p:nvSpPr>
        <p:spPr>
          <a:xfrm>
            <a:off x="19278720" y="31470480"/>
            <a:ext cx="14173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333399"/>
                </a:solidFill>
                <a:latin typeface="Garamond"/>
              </a:rPr>
              <a:t>Contact Information</a:t>
            </a:r>
            <a:r>
              <a:rPr b="1" lang="en-US" sz="57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34800120" y="14249520"/>
            <a:ext cx="28692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Garamond"/>
              </a:rPr>
              <a:t>Figure 2.</a:t>
            </a:r>
            <a:r>
              <a:rPr b="0" lang="en-US" sz="45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34779600" y="5715000"/>
            <a:ext cx="28692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99"/>
                </a:solidFill>
                <a:latin typeface="Garamond"/>
              </a:rPr>
              <a:t>Figure 1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1"/>
          <p:cNvSpPr/>
          <p:nvPr/>
        </p:nvSpPr>
        <p:spPr>
          <a:xfrm>
            <a:off x="34823520" y="14095440"/>
            <a:ext cx="14325480" cy="784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6"/>
          <p:cNvSpPr/>
          <p:nvPr/>
        </p:nvSpPr>
        <p:spPr>
          <a:xfrm>
            <a:off x="34823520" y="5483160"/>
            <a:ext cx="14325480" cy="784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4:14:01Z</dcterms:created>
  <dc:creator>Daniel/Alyson Cantey</dc:creator>
  <dc:description/>
  <dc:language>en-US</dc:language>
  <cp:lastModifiedBy>Leary, Emily</cp:lastModifiedBy>
  <dcterms:modified xsi:type="dcterms:W3CDTF">2012-04-17T16:46:19Z</dcterms:modified>
  <cp:revision>93</cp:revision>
  <dc:subject/>
  <dc:title>PowerPoint Presentation</dc:title>
</cp:coreProperties>
</file>