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51206400" cy="36576000"/>
  <p:notesSz cx="49525238" cy="35758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49525200" cy="357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145996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28050840" y="-360"/>
            <a:ext cx="2146140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5376680" y="2682360"/>
            <a:ext cx="18770400" cy="1340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951440" y="16984800"/>
            <a:ext cx="39620880" cy="160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33962760"/>
            <a:ext cx="2145996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28050840" y="33962760"/>
            <a:ext cx="2146140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1A80-4F67-4735-BA0A-D7664651B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28051200" y="33963120"/>
            <a:ext cx="2146140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C5B1-870E-417C-BE10-9AA2217B9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5376680" y="2682720"/>
            <a:ext cx="18770400" cy="134082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4951440" y="16984800"/>
            <a:ext cx="39620880" cy="160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1B88-F58B-4CA5-AB60-6BF7D0E36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35440" y="3258720"/>
            <a:ext cx="43535520" cy="609588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ctr">
            <a:noAutofit/>
          </a:bodyPr>
          <a:p>
            <a:pPr indent="0" algn="ctr"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35440" y="10572840"/>
            <a:ext cx="4353552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35440" y="22032360"/>
            <a:ext cx="4353552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3347-A336-4D08-A8D9-C13EDFA5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35440" y="3258720"/>
            <a:ext cx="43535520" cy="609588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ctr">
            <a:noAutofit/>
          </a:bodyPr>
          <a:p>
            <a:pPr indent="0" algn="ctr"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35440" y="10572840"/>
            <a:ext cx="21245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143200" y="10572840"/>
            <a:ext cx="21245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35440" y="22032360"/>
            <a:ext cx="21245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143200" y="22032360"/>
            <a:ext cx="21245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03C4-0494-451C-926D-3CF6E7D93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35440" y="3258720"/>
            <a:ext cx="43535520" cy="609588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ctr">
            <a:noAutofit/>
          </a:bodyPr>
          <a:p>
            <a:pPr indent="0" algn="ctr"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35440" y="10572840"/>
            <a:ext cx="14018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554760" y="10572840"/>
            <a:ext cx="14018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274080" y="10572840"/>
            <a:ext cx="14018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35440" y="22032360"/>
            <a:ext cx="14018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554760" y="22032360"/>
            <a:ext cx="14018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3274080" y="22032360"/>
            <a:ext cx="14018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15B6-E0BE-4246-96BE-BABF769A5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35440" y="3258720"/>
            <a:ext cx="43535520" cy="609588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ctr">
            <a:noAutofit/>
          </a:bodyPr>
          <a:p>
            <a:pPr indent="0" algn="ctr"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35440" y="10572840"/>
            <a:ext cx="43535520" cy="219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0819-9B9A-427E-9F9C-0FA26D42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35440" y="3258720"/>
            <a:ext cx="43535520" cy="609588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ctr">
            <a:noAutofit/>
          </a:bodyPr>
          <a:p>
            <a:pPr indent="0" algn="ctr"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35440" y="10572840"/>
            <a:ext cx="43535520" cy="2193912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24AF-06E4-444C-92E7-143A4E40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35440" y="3258720"/>
            <a:ext cx="43535520" cy="609588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ctr">
            <a:noAutofit/>
          </a:bodyPr>
          <a:p>
            <a:pPr indent="0" algn="ctr"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35440" y="10572840"/>
            <a:ext cx="21245040" cy="2193912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143200" y="10572840"/>
            <a:ext cx="21245040" cy="2193912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C76D-404D-4F5A-91CC-A53CC699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35440" y="3258720"/>
            <a:ext cx="43535520" cy="609588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ctr">
            <a:noAutofit/>
          </a:bodyPr>
          <a:p>
            <a:pPr indent="0" algn="ctr"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8E6D-AC78-4C58-BA11-B3DA69F7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35440" y="3258720"/>
            <a:ext cx="43535520" cy="2825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625"/>
              </a:spcBef>
              <a:tabLst>
                <a:tab algn="l" pos="0"/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9780-5972-4D7A-AD16-F6452F65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35440" y="3258720"/>
            <a:ext cx="43535520" cy="609588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ctr">
            <a:noAutofit/>
          </a:bodyPr>
          <a:p>
            <a:pPr indent="0" algn="ctr"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35440" y="10572840"/>
            <a:ext cx="21245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143200" y="10572840"/>
            <a:ext cx="21245040" cy="2193912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35440" y="22032360"/>
            <a:ext cx="21245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913B-92CF-47B0-9AD4-6580DE61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35440" y="3258720"/>
            <a:ext cx="43535520" cy="609588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ctr">
            <a:noAutofit/>
          </a:bodyPr>
          <a:p>
            <a:pPr indent="0" algn="ctr"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35440" y="10572840"/>
            <a:ext cx="21245040" cy="2193912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143200" y="10572840"/>
            <a:ext cx="21245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143200" y="22032360"/>
            <a:ext cx="21245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F2D2-E0CA-4FA2-9075-D3C4B027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35440" y="3258720"/>
            <a:ext cx="43535520" cy="609588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ctr">
            <a:noAutofit/>
          </a:bodyPr>
          <a:p>
            <a:pPr indent="0" algn="ctr"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35440" y="10572840"/>
            <a:ext cx="21245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143200" y="10572840"/>
            <a:ext cx="21245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35440" y="22032360"/>
            <a:ext cx="4353552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48B2-54A1-40B1-819A-BC4C6F70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35440" y="3258720"/>
            <a:ext cx="43535520" cy="609588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ctr">
            <a:noAutofit/>
          </a:bodyPr>
          <a:p>
            <a:pPr indent="0" algn="ctr"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35440" y="10572840"/>
            <a:ext cx="43535520" cy="2193912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marL="1120680" indent="-1120680">
              <a:spcBef>
                <a:spcPts val="2625"/>
              </a:spcBef>
              <a:buClr>
                <a:srgbClr val="000000"/>
              </a:buClr>
              <a:buFont typeface="Times New Roman"/>
              <a:buChar char="•"/>
              <a:tabLst>
                <a:tab algn="l" pos="2994120"/>
                <a:tab algn="l" pos="5987880"/>
                <a:tab algn="l" pos="8982000"/>
              </a:tabLst>
            </a:pPr>
            <a:r>
              <a:rPr b="0" lang="en-US" sz="10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  <a:p>
            <a:pPr lvl="1" marL="2430360" indent="-931680">
              <a:spcBef>
                <a:spcPts val="2625"/>
              </a:spcBef>
              <a:buClr>
                <a:srgbClr val="000000"/>
              </a:buClr>
              <a:buFont typeface="Times New Roman"/>
              <a:buChar char="–"/>
              <a:tabLst>
                <a:tab algn="l" pos="2994120"/>
                <a:tab algn="l" pos="5987880"/>
                <a:tab algn="l" pos="8982000"/>
              </a:tabLst>
            </a:pPr>
            <a:r>
              <a:rPr b="0" lang="en-US" sz="10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  <a:p>
            <a:pPr lvl="2" marL="3736800" indent="-742680">
              <a:spcBef>
                <a:spcPts val="2625"/>
              </a:spcBef>
              <a:buClr>
                <a:srgbClr val="000000"/>
              </a:buClr>
              <a:buFont typeface="Times New Roman"/>
              <a:buChar char="•"/>
              <a:tabLst>
                <a:tab algn="l" pos="2994120"/>
                <a:tab algn="l" pos="5987880"/>
                <a:tab algn="l" pos="8982000"/>
              </a:tabLst>
            </a:pPr>
            <a:r>
              <a:rPr b="0" lang="en-US" sz="10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  <a:p>
            <a:pPr lvl="3" marL="5232240" indent="-747720">
              <a:spcBef>
                <a:spcPts val="2625"/>
              </a:spcBef>
              <a:buClr>
                <a:srgbClr val="000000"/>
              </a:buClr>
              <a:buFont typeface="Times New Roman"/>
              <a:buChar char="–"/>
              <a:tabLst>
                <a:tab algn="l" pos="2994120"/>
                <a:tab algn="l" pos="5987880"/>
                <a:tab algn="l" pos="8982000"/>
              </a:tabLst>
            </a:pPr>
            <a:r>
              <a:rPr b="0" lang="en-US" sz="10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  <a:p>
            <a:pPr lvl="4" marL="6727680" indent="-747720">
              <a:spcBef>
                <a:spcPts val="2625"/>
              </a:spcBef>
              <a:buClr>
                <a:srgbClr val="000000"/>
              </a:buClr>
              <a:buFont typeface="Times New Roman"/>
              <a:buChar char="»"/>
              <a:tabLst>
                <a:tab algn="l" pos="2994120"/>
                <a:tab algn="l" pos="5987880"/>
                <a:tab algn="l" pos="8982000"/>
              </a:tabLst>
            </a:pPr>
            <a:r>
              <a:rPr b="0" lang="en-US" sz="10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  <a:p>
            <a:pPr lvl="5" marL="6727680" indent="-747720">
              <a:spcBef>
                <a:spcPts val="2625"/>
              </a:spcBef>
              <a:buClr>
                <a:srgbClr val="000000"/>
              </a:buClr>
              <a:buFont typeface="Times New Roman"/>
              <a:buChar char="»"/>
              <a:tabLst>
                <a:tab algn="l" pos="2994120"/>
                <a:tab algn="l" pos="5987880"/>
                <a:tab algn="l" pos="8982000"/>
              </a:tabLst>
            </a:pPr>
            <a:r>
              <a:rPr b="0" lang="en-US" sz="10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  <a:p>
            <a:pPr lvl="6" marL="6727680" indent="-747720">
              <a:spcBef>
                <a:spcPts val="2625"/>
              </a:spcBef>
              <a:buClr>
                <a:srgbClr val="000000"/>
              </a:buClr>
              <a:buFont typeface="Times New Roman"/>
              <a:buChar char="»"/>
              <a:tabLst>
                <a:tab algn="l" pos="2994120"/>
                <a:tab algn="l" pos="5987880"/>
                <a:tab algn="l" pos="8982000"/>
              </a:tabLst>
            </a:pPr>
            <a:r>
              <a:rPr b="0" lang="en-US" sz="10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35080" y="33316560"/>
            <a:ext cx="10667880" cy="245412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00680" y="33316560"/>
            <a:ext cx="16205040" cy="245412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702720" y="33316560"/>
            <a:ext cx="10667880" cy="245412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CAC2-BA4C-4BD0-B8DB-85612E54933E}" type="slidenum"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609480"/>
            <a:ext cx="51206400" cy="33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8800" rIns="298800" tIns="149400" bIns="149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994120"/>
                <a:tab algn="l" pos="5987880"/>
                <a:tab algn="l" pos="8982000"/>
              </a:tabLst>
            </a:pPr>
            <a:r>
              <a:rPr b="1" lang="en-US" sz="9000" spc="-1" strike="noStrike">
                <a:solidFill>
                  <a:srgbClr val="333399"/>
                </a:solidFill>
                <a:latin typeface="Garamond"/>
              </a:rPr>
              <a:t>Title Goes Here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94120"/>
                <a:tab algn="l" pos="5987880"/>
                <a:tab algn="l" pos="89820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                                     </a:t>
            </a:r>
            <a:r>
              <a:rPr b="1" lang="en-US" sz="5500" spc="-1" strike="noStrike">
                <a:solidFill>
                  <a:srgbClr val="000000"/>
                </a:solidFill>
                <a:latin typeface="Garamond"/>
              </a:rPr>
              <a:t>Name</a:t>
            </a:r>
            <a:r>
              <a:rPr b="1" lang="en-US" sz="55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55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55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55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5500" spc="-1" strike="noStrike">
                <a:solidFill>
                  <a:srgbClr val="000000"/>
                </a:solidFill>
                <a:latin typeface="Garamond"/>
              </a:rPr>
              <a:t>Name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94120"/>
                <a:tab algn="l" pos="5987880"/>
                <a:tab algn="l" pos="8982000"/>
              </a:tabLst>
            </a:pPr>
            <a:r>
              <a:rPr b="1" i="1" lang="en-US" sz="55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                                   </a:t>
            </a:r>
            <a:r>
              <a:rPr b="1" i="1" lang="en-US" sz="5500" spc="-1" strike="noStrike">
                <a:solidFill>
                  <a:srgbClr val="000000"/>
                </a:solidFill>
                <a:latin typeface="Garamond"/>
              </a:rPr>
              <a:t>affiliation</a:t>
            </a:r>
            <a:r>
              <a:rPr b="1" i="1" lang="en-US" sz="55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i="1" lang="en-US" sz="55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i="1" lang="en-US" sz="55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i="1" lang="en-US" sz="5500" spc="-1" strike="noStrike">
                <a:solidFill>
                  <a:srgbClr val="000000"/>
                </a:solidFill>
                <a:latin typeface="Garamond"/>
              </a:rPr>
              <a:t>              affiliation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66"/>
          <p:cNvGrpSpPr/>
          <p:nvPr/>
        </p:nvGrpSpPr>
        <p:grpSpPr>
          <a:xfrm>
            <a:off x="1827360" y="5483160"/>
            <a:ext cx="16453800" cy="1249560"/>
            <a:chOff x="1827360" y="5483160"/>
            <a:chExt cx="16453800" cy="1249560"/>
          </a:xfrm>
        </p:grpSpPr>
        <p:sp>
          <p:nvSpPr>
            <p:cNvPr id="50" name="Text Box 67"/>
            <p:cNvSpPr/>
            <p:nvPr/>
          </p:nvSpPr>
          <p:spPr>
            <a:xfrm>
              <a:off x="2203560" y="5635800"/>
              <a:ext cx="16077600" cy="10969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Text Box 68"/>
            <p:cNvSpPr/>
            <p:nvPr/>
          </p:nvSpPr>
          <p:spPr>
            <a:xfrm>
              <a:off x="1827360" y="5483160"/>
              <a:ext cx="16079760" cy="1096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1" lang="en-US" sz="7000" spc="-1" strike="noStrike">
                  <a:solidFill>
                    <a:srgbClr val="ffffff"/>
                  </a:solidFill>
                  <a:latin typeface="Garamond"/>
                </a:rPr>
                <a:t>Introduction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66"/>
          <p:cNvGrpSpPr/>
          <p:nvPr/>
        </p:nvGrpSpPr>
        <p:grpSpPr>
          <a:xfrm>
            <a:off x="1827360" y="14625720"/>
            <a:ext cx="16453800" cy="1248840"/>
            <a:chOff x="1827360" y="14625720"/>
            <a:chExt cx="16453800" cy="1248840"/>
          </a:xfrm>
        </p:grpSpPr>
        <p:sp>
          <p:nvSpPr>
            <p:cNvPr id="53" name="Text Box 67"/>
            <p:cNvSpPr/>
            <p:nvPr/>
          </p:nvSpPr>
          <p:spPr>
            <a:xfrm>
              <a:off x="2203560" y="14778000"/>
              <a:ext cx="16077600" cy="10965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68"/>
            <p:cNvSpPr/>
            <p:nvPr/>
          </p:nvSpPr>
          <p:spPr>
            <a:xfrm>
              <a:off x="1827360" y="14625720"/>
              <a:ext cx="16079760" cy="10965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1" lang="en-US" sz="7000" spc="-1" strike="noStrike">
                  <a:solidFill>
                    <a:srgbClr val="ffffff"/>
                  </a:solidFill>
                  <a:latin typeface="Garamond"/>
                </a:rPr>
                <a:t>Method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Group 66"/>
          <p:cNvGrpSpPr/>
          <p:nvPr/>
        </p:nvGrpSpPr>
        <p:grpSpPr>
          <a:xfrm>
            <a:off x="19203840" y="19195920"/>
            <a:ext cx="14625360" cy="1249560"/>
            <a:chOff x="19203840" y="19195920"/>
            <a:chExt cx="14625360" cy="1249560"/>
          </a:xfrm>
        </p:grpSpPr>
        <p:sp>
          <p:nvSpPr>
            <p:cNvPr id="56" name="Text Box 67"/>
            <p:cNvSpPr/>
            <p:nvPr/>
          </p:nvSpPr>
          <p:spPr>
            <a:xfrm>
              <a:off x="19538280" y="19348560"/>
              <a:ext cx="14290920" cy="10969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68"/>
            <p:cNvSpPr/>
            <p:nvPr/>
          </p:nvSpPr>
          <p:spPr>
            <a:xfrm>
              <a:off x="19203840" y="19195920"/>
              <a:ext cx="14293080" cy="1096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1" lang="en-US" sz="7000" spc="-1" strike="noStrike">
                  <a:solidFill>
                    <a:srgbClr val="ffffff"/>
                  </a:solidFill>
                  <a:latin typeface="Garamond"/>
                </a:rPr>
                <a:t>Results &amp; Discussion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Group 66"/>
          <p:cNvGrpSpPr/>
          <p:nvPr/>
        </p:nvGrpSpPr>
        <p:grpSpPr>
          <a:xfrm>
            <a:off x="34736040" y="22852080"/>
            <a:ext cx="14625360" cy="1248840"/>
            <a:chOff x="34736040" y="22852080"/>
            <a:chExt cx="14625360" cy="1248840"/>
          </a:xfrm>
        </p:grpSpPr>
        <p:sp>
          <p:nvSpPr>
            <p:cNvPr id="59" name="Text Box 67"/>
            <p:cNvSpPr/>
            <p:nvPr/>
          </p:nvSpPr>
          <p:spPr>
            <a:xfrm>
              <a:off x="35070480" y="23004360"/>
              <a:ext cx="14290920" cy="10965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68"/>
            <p:cNvSpPr/>
            <p:nvPr/>
          </p:nvSpPr>
          <p:spPr>
            <a:xfrm>
              <a:off x="34736040" y="22852080"/>
              <a:ext cx="14293080" cy="10965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1" lang="en-US" sz="7000" spc="-1" strike="noStrike">
                  <a:solidFill>
                    <a:srgbClr val="ffffff"/>
                  </a:solidFill>
                  <a:latin typeface="Garamond"/>
                </a:rPr>
                <a:t>References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Line 59"/>
          <p:cNvSpPr/>
          <p:nvPr/>
        </p:nvSpPr>
        <p:spPr>
          <a:xfrm>
            <a:off x="0" y="228600"/>
            <a:ext cx="51206400" cy="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59"/>
          <p:cNvSpPr/>
          <p:nvPr/>
        </p:nvSpPr>
        <p:spPr>
          <a:xfrm>
            <a:off x="0" y="4648320"/>
            <a:ext cx="51206400" cy="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65"/>
          <p:cNvSpPr/>
          <p:nvPr/>
        </p:nvSpPr>
        <p:spPr>
          <a:xfrm>
            <a:off x="0" y="4386240"/>
            <a:ext cx="5120640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65"/>
          <p:cNvSpPr/>
          <p:nvPr/>
        </p:nvSpPr>
        <p:spPr>
          <a:xfrm>
            <a:off x="0" y="455760"/>
            <a:ext cx="5120640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7"/>
          <p:cNvSpPr/>
          <p:nvPr/>
        </p:nvSpPr>
        <p:spPr>
          <a:xfrm>
            <a:off x="19050120" y="31165920"/>
            <a:ext cx="14782680" cy="304776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48"/>
          <p:cNvSpPr/>
          <p:nvPr/>
        </p:nvSpPr>
        <p:spPr>
          <a:xfrm>
            <a:off x="19278720" y="31470480"/>
            <a:ext cx="1417320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333399"/>
                </a:solidFill>
                <a:latin typeface="Garamond"/>
              </a:rPr>
              <a:t>Contact Information</a:t>
            </a:r>
            <a:r>
              <a:rPr b="1" lang="en-US" sz="57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9"/>
          <p:cNvSpPr/>
          <p:nvPr/>
        </p:nvSpPr>
        <p:spPr>
          <a:xfrm>
            <a:off x="34800120" y="14249520"/>
            <a:ext cx="2869200" cy="77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333399"/>
                </a:solidFill>
                <a:latin typeface="Garamond"/>
              </a:rPr>
              <a:t>Figure 2.</a:t>
            </a:r>
            <a:r>
              <a:rPr b="0" lang="en-US" sz="45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0"/>
          <p:cNvSpPr/>
          <p:nvPr/>
        </p:nvSpPr>
        <p:spPr>
          <a:xfrm>
            <a:off x="34779600" y="5715000"/>
            <a:ext cx="2869200" cy="77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333399"/>
                </a:solidFill>
                <a:latin typeface="Garamond"/>
              </a:rPr>
              <a:t>Figure 1.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1"/>
          <p:cNvSpPr/>
          <p:nvPr/>
        </p:nvSpPr>
        <p:spPr>
          <a:xfrm>
            <a:off x="34823520" y="14095440"/>
            <a:ext cx="14325480" cy="784872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56"/>
          <p:cNvSpPr/>
          <p:nvPr/>
        </p:nvSpPr>
        <p:spPr>
          <a:xfrm>
            <a:off x="34823520" y="5483160"/>
            <a:ext cx="14325480" cy="784872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5T14:14:01Z</dcterms:created>
  <dc:creator>Daniel/Alyson Cantey</dc:creator>
  <dc:description/>
  <dc:language>en-US</dc:language>
  <cp:lastModifiedBy>Leary, Emily</cp:lastModifiedBy>
  <dcterms:modified xsi:type="dcterms:W3CDTF">2012-04-17T16:46:19Z</dcterms:modified>
  <cp:revision>93</cp:revision>
  <dc:subject/>
  <dc:title>PowerPoint Presentation</dc:title>
</cp:coreProperties>
</file>