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42210038" cy="3210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234-7F9B-4B65-A434-FA1EFA17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3949992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19028520"/>
            <a:ext cx="3949992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07F-984C-42E3-84B3-2BD43382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377-76B0-404A-9886-7CB0D1F9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8024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840" y="768024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1902852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852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840" y="1902852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13D-FA24-4EBC-98E5-3C2B5810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7680240"/>
            <a:ext cx="39499920" cy="217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49"/>
              </a:spcBef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C81-47BC-4474-8FC1-DE3B7FD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3949992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533-C224-4395-979E-F94C32F2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038-E51B-43AC-B17B-F5CCCBE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C0C-7C1F-453C-83FD-DB271186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1317600"/>
            <a:ext cx="394999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49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416-2C5B-45FC-9EBD-4B4846F3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57D-0E07-4CB8-8F31-54913DE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050-458A-4EF4-B300-6B217F2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19028520"/>
            <a:ext cx="3949992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23C-BC30-4DA8-A15F-C02267A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r>
              <a:rPr b="0" lang="en-US" sz="2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640" y="7680240"/>
            <a:ext cx="3949992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marL="1692360" indent="-1692360">
              <a:spcBef>
                <a:spcPts val="3949"/>
              </a:spcBef>
              <a:buClr>
                <a:srgbClr val="000000"/>
              </a:buClr>
              <a:buFont typeface="Arial"/>
              <a:buChar char="•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1" marL="3657600" indent="-1409760">
              <a:spcBef>
                <a:spcPts val="3949"/>
              </a:spcBef>
              <a:buClr>
                <a:srgbClr val="000000"/>
              </a:buClr>
              <a:buFont typeface="Arial"/>
              <a:buChar char="–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2" marL="5622840" indent="-1119240">
              <a:spcBef>
                <a:spcPts val="3949"/>
              </a:spcBef>
              <a:buClr>
                <a:srgbClr val="000000"/>
              </a:buClr>
              <a:buFont typeface="Arial"/>
              <a:buChar char="•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3" marL="7870680" indent="-1118880">
              <a:spcBef>
                <a:spcPts val="3949"/>
              </a:spcBef>
              <a:buClr>
                <a:srgbClr val="000000"/>
              </a:buClr>
              <a:buFont typeface="Arial"/>
              <a:buChar char="–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4" marL="10126800" indent="-1127160">
              <a:spcBef>
                <a:spcPts val="3949"/>
              </a:spcBef>
              <a:buClr>
                <a:srgbClr val="000000"/>
              </a:buClr>
              <a:buFont typeface="Arial"/>
              <a:buChar char="»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5" marL="10126800" indent="-1127160">
              <a:spcBef>
                <a:spcPts val="3949"/>
              </a:spcBef>
              <a:buClr>
                <a:srgbClr val="000000"/>
              </a:buClr>
              <a:buFont typeface="Arial"/>
              <a:buChar char="»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6" marL="10126800" indent="-1127160">
              <a:spcBef>
                <a:spcPts val="3949"/>
              </a:spcBef>
              <a:buClr>
                <a:srgbClr val="000000"/>
              </a:buClr>
              <a:buFont typeface="Arial"/>
              <a:buChar char="»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29978280"/>
            <a:ext cx="10239120" cy="22860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29978280"/>
            <a:ext cx="13896720" cy="22860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29978280"/>
            <a:ext cx="10239120" cy="22860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D54F-E9F7-4747-A183-1EBC2F13B948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052640" y="4549680"/>
            <a:ext cx="9591480" cy="274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03600"/>
                <a:tab algn="l" pos="9007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1887200" y="4525920"/>
            <a:ext cx="9601200" cy="2742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4206960" y="593640"/>
            <a:ext cx="35555040" cy="3382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ctr">
              <a:spcBef>
                <a:spcPts val="4124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itle Goes H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Author(s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Affiliation(s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2"/>
          <p:cNvSpPr/>
          <p:nvPr/>
        </p:nvSpPr>
        <p:spPr>
          <a:xfrm>
            <a:off x="1014480" y="19338840"/>
            <a:ext cx="9601200" cy="1187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11883960" y="4514760"/>
            <a:ext cx="9624960" cy="1166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1322280" y="19492920"/>
            <a:ext cx="87328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1"/>
          <p:cNvSpPr/>
          <p:nvPr/>
        </p:nvSpPr>
        <p:spPr>
          <a:xfrm>
            <a:off x="22721760" y="26060400"/>
            <a:ext cx="8778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5"/>
          <p:cNvSpPr/>
          <p:nvPr/>
        </p:nvSpPr>
        <p:spPr>
          <a:xfrm>
            <a:off x="1052640" y="4552920"/>
            <a:ext cx="9623160" cy="1166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6"/>
          <p:cNvSpPr/>
          <p:nvPr/>
        </p:nvSpPr>
        <p:spPr>
          <a:xfrm>
            <a:off x="1235160" y="4572000"/>
            <a:ext cx="92106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05"/>
          <p:cNvSpPr/>
          <p:nvPr/>
        </p:nvSpPr>
        <p:spPr>
          <a:xfrm>
            <a:off x="12115800" y="4618080"/>
            <a:ext cx="92106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68"/>
          <p:cNvSpPr/>
          <p:nvPr/>
        </p:nvSpPr>
        <p:spPr>
          <a:xfrm>
            <a:off x="11883960" y="23641200"/>
            <a:ext cx="9624960" cy="11588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70"/>
          <p:cNvSpPr/>
          <p:nvPr/>
        </p:nvSpPr>
        <p:spPr>
          <a:xfrm>
            <a:off x="13112640" y="23833080"/>
            <a:ext cx="6978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78"/>
          <p:cNvSpPr/>
          <p:nvPr/>
        </p:nvSpPr>
        <p:spPr>
          <a:xfrm>
            <a:off x="22521960" y="4552920"/>
            <a:ext cx="9601200" cy="2742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84"/>
          <p:cNvSpPr/>
          <p:nvPr/>
        </p:nvSpPr>
        <p:spPr>
          <a:xfrm>
            <a:off x="33329520" y="4664160"/>
            <a:ext cx="9591840" cy="274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87"/>
          <p:cNvSpPr/>
          <p:nvPr/>
        </p:nvSpPr>
        <p:spPr>
          <a:xfrm>
            <a:off x="33329520" y="4664160"/>
            <a:ext cx="9578880" cy="11588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89"/>
          <p:cNvSpPr/>
          <p:nvPr/>
        </p:nvSpPr>
        <p:spPr>
          <a:xfrm>
            <a:off x="33512040" y="4800600"/>
            <a:ext cx="92743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91"/>
          <p:cNvSpPr/>
          <p:nvPr/>
        </p:nvSpPr>
        <p:spPr>
          <a:xfrm>
            <a:off x="33329520" y="25649280"/>
            <a:ext cx="9577440" cy="11588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92"/>
          <p:cNvSpPr/>
          <p:nvPr/>
        </p:nvSpPr>
        <p:spPr>
          <a:xfrm>
            <a:off x="33512040" y="25831800"/>
            <a:ext cx="92743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5:38:55Z</dcterms:created>
  <dc:creator>Angie</dc:creator>
  <dc:description/>
  <dc:language>en-US</dc:language>
  <cp:lastModifiedBy>Leary, Emily</cp:lastModifiedBy>
  <dcterms:modified xsi:type="dcterms:W3CDTF">2012-04-17T16:46:33Z</dcterms:modified>
  <cp:revision>144</cp:revision>
  <dc:subject/>
  <dc:title>Slide 1</dc:title>
</cp:coreProperties>
</file>