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42210038" cy="3210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20B-8EAF-4B4D-BCFF-2ADAE146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902852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07B-1F68-4797-925D-A8944DAC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91E-25BB-4A4D-BF29-0CCA06BC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768024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9028520"/>
            <a:ext cx="1271880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0BB-3DCB-4799-89FA-A935FCC4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49"/>
              </a:spcBef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CA3-C6B5-4683-8968-DB99F89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9CC-1D23-41A5-BCA4-873A285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162-EB44-4BF9-84ED-4B2C3F4A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034-78B8-42E2-AF71-74D7984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317600"/>
            <a:ext cx="394999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49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3AB-54D8-48EA-8449-9E24DA00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DE1-528E-4506-B15B-CD60942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902852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50E-7B01-4296-86CB-B0F3D6C5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7680240"/>
            <a:ext cx="1927584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9028520"/>
            <a:ext cx="39499920" cy="103633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indent="0">
              <a:spcBef>
                <a:spcPts val="3949"/>
              </a:spcBef>
              <a:buNone/>
              <a:tabLst>
                <a:tab algn="l" pos="4503600"/>
                <a:tab algn="l" pos="900756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974-1801-4C40-B6FD-E9D45B06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17600"/>
            <a:ext cx="39499920" cy="54864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ctr">
            <a:noAutofit/>
          </a:bodyPr>
          <a:p>
            <a:pPr indent="0" algn="ctr">
              <a:buNone/>
              <a:tabLst>
                <a:tab algn="l" pos="0"/>
                <a:tab algn="l" pos="4503600"/>
                <a:tab algn="l" pos="9007560"/>
              </a:tabLst>
            </a:pPr>
            <a:r>
              <a:rPr b="0" lang="en-US" sz="2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7680240"/>
            <a:ext cx="39499920" cy="2172672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rmAutofit/>
          </a:bodyPr>
          <a:p>
            <a:pPr marL="1692360" indent="-1692360">
              <a:spcBef>
                <a:spcPts val="3949"/>
              </a:spcBef>
              <a:buClr>
                <a:srgbClr val="000000"/>
              </a:buClr>
              <a:buFont typeface="Arial"/>
              <a:buChar char="•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1" marL="3657600" indent="-1409760">
              <a:spcBef>
                <a:spcPts val="3949"/>
              </a:spcBef>
              <a:buClr>
                <a:srgbClr val="000000"/>
              </a:buClr>
              <a:buFont typeface="Arial"/>
              <a:buChar char="–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2" marL="5622840" indent="-1119240">
              <a:spcBef>
                <a:spcPts val="3949"/>
              </a:spcBef>
              <a:buClr>
                <a:srgbClr val="000000"/>
              </a:buClr>
              <a:buFont typeface="Arial"/>
              <a:buChar char="•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3" marL="7870680" indent="-1118880">
              <a:spcBef>
                <a:spcPts val="3949"/>
              </a:spcBef>
              <a:buClr>
                <a:srgbClr val="000000"/>
              </a:buClr>
              <a:buFont typeface="Arial"/>
              <a:buChar char="–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4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5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  <a:p>
            <a:pPr lvl="6" marL="10126800" indent="-1127160">
              <a:spcBef>
                <a:spcPts val="3949"/>
              </a:spcBef>
              <a:buClr>
                <a:srgbClr val="000000"/>
              </a:buClr>
              <a:buFont typeface="Arial"/>
              <a:buChar char="»"/>
              <a:tabLst>
                <a:tab algn="l" pos="4503600"/>
                <a:tab algn="l" pos="900756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29978280"/>
            <a:ext cx="102391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29978280"/>
            <a:ext cx="138967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29978280"/>
            <a:ext cx="10239120" cy="22860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C6A-6ECF-4E50-903E-C12C5A7ADC9C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052640" y="4549680"/>
            <a:ext cx="9591480" cy="274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1887200" y="4525920"/>
            <a:ext cx="9601200" cy="2742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4206960" y="593640"/>
            <a:ext cx="35555040" cy="3382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ctr">
              <a:spcBef>
                <a:spcPts val="4124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itle Goes H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uthor(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ffiliation(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2"/>
          <p:cNvSpPr/>
          <p:nvPr/>
        </p:nvSpPr>
        <p:spPr>
          <a:xfrm>
            <a:off x="1014480" y="19338840"/>
            <a:ext cx="9601200" cy="1187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11883960" y="4514760"/>
            <a:ext cx="9624960" cy="1166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1322280" y="19492920"/>
            <a:ext cx="87328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1"/>
          <p:cNvSpPr/>
          <p:nvPr/>
        </p:nvSpPr>
        <p:spPr>
          <a:xfrm>
            <a:off x="22721760" y="26060400"/>
            <a:ext cx="8778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5"/>
          <p:cNvSpPr/>
          <p:nvPr/>
        </p:nvSpPr>
        <p:spPr>
          <a:xfrm>
            <a:off x="1052640" y="4552920"/>
            <a:ext cx="9623160" cy="1166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6"/>
          <p:cNvSpPr/>
          <p:nvPr/>
        </p:nvSpPr>
        <p:spPr>
          <a:xfrm>
            <a:off x="1235160" y="4572000"/>
            <a:ext cx="92106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05"/>
          <p:cNvSpPr/>
          <p:nvPr/>
        </p:nvSpPr>
        <p:spPr>
          <a:xfrm>
            <a:off x="12115800" y="4618080"/>
            <a:ext cx="92106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68"/>
          <p:cNvSpPr/>
          <p:nvPr/>
        </p:nvSpPr>
        <p:spPr>
          <a:xfrm>
            <a:off x="11883960" y="23641200"/>
            <a:ext cx="962496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70"/>
          <p:cNvSpPr/>
          <p:nvPr/>
        </p:nvSpPr>
        <p:spPr>
          <a:xfrm>
            <a:off x="13112640" y="23833080"/>
            <a:ext cx="6978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78"/>
          <p:cNvSpPr/>
          <p:nvPr/>
        </p:nvSpPr>
        <p:spPr>
          <a:xfrm>
            <a:off x="22521960" y="4552920"/>
            <a:ext cx="9601200" cy="2742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4503600"/>
                <a:tab algn="l" pos="9007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84"/>
          <p:cNvSpPr/>
          <p:nvPr/>
        </p:nvSpPr>
        <p:spPr>
          <a:xfrm>
            <a:off x="33329520" y="4664160"/>
            <a:ext cx="9591840" cy="2742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3600"/>
                <a:tab algn="l" pos="90075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87"/>
          <p:cNvSpPr/>
          <p:nvPr/>
        </p:nvSpPr>
        <p:spPr>
          <a:xfrm>
            <a:off x="33329520" y="4664160"/>
            <a:ext cx="957888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89"/>
          <p:cNvSpPr/>
          <p:nvPr/>
        </p:nvSpPr>
        <p:spPr>
          <a:xfrm>
            <a:off x="33512040" y="4800600"/>
            <a:ext cx="92743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91"/>
          <p:cNvSpPr/>
          <p:nvPr/>
        </p:nvSpPr>
        <p:spPr>
          <a:xfrm>
            <a:off x="33329520" y="25649280"/>
            <a:ext cx="9577440" cy="11588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92"/>
          <p:cNvSpPr/>
          <p:nvPr/>
        </p:nvSpPr>
        <p:spPr>
          <a:xfrm>
            <a:off x="33512040" y="25831800"/>
            <a:ext cx="92743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5:38:55Z</dcterms:created>
  <dc:creator>Angie</dc:creator>
  <dc:description/>
  <dc:language>en-US</dc:language>
  <cp:lastModifiedBy>Leary, Emily</cp:lastModifiedBy>
  <dcterms:modified xsi:type="dcterms:W3CDTF">2012-04-17T16:46:33Z</dcterms:modified>
  <cp:revision>144</cp:revision>
  <dc:subject/>
  <dc:title>Slide 1</dc:title>
</cp:coreProperties>
</file>