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2AB-5892-4587-AB7B-1E68CD49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7E9-6365-4570-9E84-D5E46D64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751-E394-4D6A-8BF8-C5C271CC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ED6-D67B-4D33-9637-AE5D384E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31A-7B38-4252-8A5C-07C02881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07E-F017-47CF-8C51-C3512F69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490-17B6-4507-B013-70C1BD57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30D-1ECC-411C-93B4-78AC1C5C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30C-73D4-4CBF-9613-E6AA609F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845-BB33-455E-8DF1-8401CA0D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1F8-D366-4320-BFBC-15C4A2D7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80B-F1E3-477C-889D-1DA46D8A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E9B5-CA1C-468D-8B89-7A714296F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90720"/>
            <a:ext cx="335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Narrow"/>
              </a:rPr>
              <a:t>Poor economic conditions: There is only 1 job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4800600"/>
            <a:ext cx="609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2 jobs 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oth in fie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791320"/>
            <a:ext cx="66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ob is in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evant fiel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Y’s job is n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3526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A gets job at a salary an incr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igher than Worker B’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ncrement is equal to Worker A’s surplu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A get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40384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outbids Y for Worker A’s services by $1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gets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48769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s A and B get jobs at same salary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he employer who, by random chance hir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A, gets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5562720"/>
            <a:ext cx="1981080" cy="406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hires Worker A at a sala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igher than Worker B’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shares surplus with Worke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6477120"/>
            <a:ext cx="2228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Y hires Worker A for $1 more th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offers Worker B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ost of Worker A’s surplus is was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6934320"/>
            <a:ext cx="2228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hires Worker A for same sala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t which Employer Y hires Worker B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gets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7391520"/>
            <a:ext cx="200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Y hires Worker A for same sala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t which Employer X hires Worker B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ost of Worker A’s surplus is was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44197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Y outbids X for Worker A’s services by $1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Y gets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6019920"/>
            <a:ext cx="1981080" cy="406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hires Worker A for $1 more th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offers Worker B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ost of Worker A’s surplus is was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7543800"/>
            <a:ext cx="2858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 = 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5812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oth employers tes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oth aware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038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nly Employer X tes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X aware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4956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nly Employer Y tes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Y aware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9528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either employer  tes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oth ignorant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1722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imple 2-employer, 2-worker labor marke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which Worker A has a human capital surplus relative to Worker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1523880"/>
            <a:ext cx="2133720" cy="406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A gets job, employer captures surplus 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B unemploye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B’s human capital accumulation was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523880"/>
            <a:ext cx="17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 tests  applican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ecomes  aware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1981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A gets job, employer captures surplu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B unemployed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Bs human capital accumulation was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514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does not test applicant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mains unaware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2514600"/>
            <a:ext cx="23432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B gets job, Worker A’s surplus wasted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A  unemploye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A’s human capital accumulation was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2057400"/>
            <a:ext cx="28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 = 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590920"/>
            <a:ext cx="28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 = 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057400"/>
            <a:ext cx="228600" cy="22860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>
            <a:off x="1752480" y="1751760"/>
            <a:ext cx="99144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6" idx="3"/>
            <a:endCxn id="68" idx="1"/>
          </p:cNvCxnSpPr>
          <p:nvPr/>
        </p:nvCxnSpPr>
        <p:spPr>
          <a:xfrm>
            <a:off x="1752480" y="2171880"/>
            <a:ext cx="63252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/>
          <p:nvPr/>
        </p:nvCxnSpPr>
        <p:spPr>
          <a:xfrm flipV="1">
            <a:off x="2514240" y="2209320"/>
            <a:ext cx="68652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8" idx="6"/>
            <a:endCxn id="63" idx="1"/>
          </p:cNvCxnSpPr>
          <p:nvPr/>
        </p:nvCxnSpPr>
        <p:spPr>
          <a:xfrm>
            <a:off x="2514600" y="2438640"/>
            <a:ext cx="686160" cy="279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" name=""/>
          <p:cNvSpPr/>
          <p:nvPr/>
        </p:nvSpPr>
        <p:spPr>
          <a:xfrm>
            <a:off x="304920" y="3048120"/>
            <a:ext cx="3200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Narrow"/>
              </a:rPr>
              <a:t>Strong economic conditions: There are 2 job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5334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800600"/>
            <a:ext cx="228600" cy="22860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73" idx="6"/>
            <a:endCxn id="74" idx="1"/>
          </p:cNvCxnSpPr>
          <p:nvPr/>
        </p:nvCxnSpPr>
        <p:spPr>
          <a:xfrm flipV="1">
            <a:off x="762120" y="4915080"/>
            <a:ext cx="381240" cy="495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74" idx="3"/>
            <a:endCxn id="54" idx="1"/>
          </p:cNvCxnSpPr>
          <p:nvPr/>
        </p:nvCxnSpPr>
        <p:spPr>
          <a:xfrm flipV="1">
            <a:off x="1371600" y="3733560"/>
            <a:ext cx="457560" cy="1181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4" idx="3"/>
            <a:endCxn id="55" idx="1"/>
          </p:cNvCxnSpPr>
          <p:nvPr/>
        </p:nvCxnSpPr>
        <p:spPr>
          <a:xfrm flipV="1">
            <a:off x="1371600" y="4190760"/>
            <a:ext cx="4575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74" idx="3"/>
            <a:endCxn id="56" idx="1"/>
          </p:cNvCxnSpPr>
          <p:nvPr/>
        </p:nvCxnSpPr>
        <p:spPr>
          <a:xfrm flipV="1">
            <a:off x="1371600" y="4647960"/>
            <a:ext cx="457560" cy="267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74" idx="3"/>
            <a:endCxn id="57" idx="1"/>
          </p:cNvCxnSpPr>
          <p:nvPr/>
        </p:nvCxnSpPr>
        <p:spPr>
          <a:xfrm>
            <a:off x="1371600" y="4915080"/>
            <a:ext cx="457560" cy="19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54" idx="3"/>
            <a:endCxn id="44" idx="1"/>
          </p:cNvCxnSpPr>
          <p:nvPr/>
        </p:nvCxnSpPr>
        <p:spPr>
          <a:xfrm flipV="1">
            <a:off x="3352680" y="3619440"/>
            <a:ext cx="153000" cy="11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55" idx="3"/>
            <a:endCxn id="45" idx="1"/>
          </p:cNvCxnSpPr>
          <p:nvPr/>
        </p:nvCxnSpPr>
        <p:spPr>
          <a:xfrm flipV="1">
            <a:off x="3276720" y="4152600"/>
            <a:ext cx="2289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56" idx="3"/>
            <a:endCxn id="51" idx="1"/>
          </p:cNvCxnSpPr>
          <p:nvPr/>
        </p:nvCxnSpPr>
        <p:spPr>
          <a:xfrm flipV="1">
            <a:off x="3276720" y="4572000"/>
            <a:ext cx="228960" cy="76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57" idx="3"/>
            <a:endCxn id="46" idx="1"/>
          </p:cNvCxnSpPr>
          <p:nvPr/>
        </p:nvCxnSpPr>
        <p:spPr>
          <a:xfrm>
            <a:off x="3352680" y="5105160"/>
            <a:ext cx="1530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1828800" y="5562720"/>
            <a:ext cx="1523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oth employers tes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oth aware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6019920"/>
            <a:ext cx="1447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nly Employer X tes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X aware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nly Employer Y tes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Y aware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7162920"/>
            <a:ext cx="1523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either employer  tes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oth ignorant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5943600"/>
            <a:ext cx="228600" cy="22860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8" idx="3"/>
            <a:endCxn id="84" idx="1"/>
          </p:cNvCxnSpPr>
          <p:nvPr/>
        </p:nvCxnSpPr>
        <p:spPr>
          <a:xfrm flipV="1">
            <a:off x="1371600" y="5715000"/>
            <a:ext cx="45756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8" idx="3"/>
            <a:endCxn id="85" idx="1"/>
          </p:cNvCxnSpPr>
          <p:nvPr/>
        </p:nvCxnSpPr>
        <p:spPr>
          <a:xfrm>
            <a:off x="1371600" y="6058080"/>
            <a:ext cx="457560" cy="11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8" idx="3"/>
            <a:endCxn id="86" idx="1"/>
          </p:cNvCxnSpPr>
          <p:nvPr/>
        </p:nvCxnSpPr>
        <p:spPr>
          <a:xfrm>
            <a:off x="1371600" y="6058080"/>
            <a:ext cx="457560" cy="571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88" idx="3"/>
            <a:endCxn id="87" idx="1"/>
          </p:cNvCxnSpPr>
          <p:nvPr/>
        </p:nvCxnSpPr>
        <p:spPr>
          <a:xfrm>
            <a:off x="1371600" y="6058080"/>
            <a:ext cx="360" cy="1257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73" idx="6"/>
            <a:endCxn id="88" idx="1"/>
          </p:cNvCxnSpPr>
          <p:nvPr/>
        </p:nvCxnSpPr>
        <p:spPr>
          <a:xfrm>
            <a:off x="762120" y="5410440"/>
            <a:ext cx="381240" cy="64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7" idx="3"/>
            <a:endCxn id="49" idx="1"/>
          </p:cNvCxnSpPr>
          <p:nvPr/>
        </p:nvCxnSpPr>
        <p:spPr>
          <a:xfrm flipV="1">
            <a:off x="2895480" y="7137360"/>
            <a:ext cx="61020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7" idx="3"/>
            <a:endCxn id="50" idx="1"/>
          </p:cNvCxnSpPr>
          <p:nvPr/>
        </p:nvCxnSpPr>
        <p:spPr>
          <a:xfrm>
            <a:off x="2895480" y="7315200"/>
            <a:ext cx="610200" cy="27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2971800" y="7086600"/>
            <a:ext cx="2858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 = 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822960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82296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822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ion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8229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llocation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4:28:14Z</dcterms:created>
  <dc:creator>Dr. Sameano F. Porchea</dc:creator>
  <dc:description/>
  <dc:language>en-US</dc:language>
  <cp:lastModifiedBy>Richard Phelps</cp:lastModifiedBy>
  <dcterms:modified xsi:type="dcterms:W3CDTF">2009-05-12T23:02:04Z</dcterms:modified>
  <cp:revision>18</cp:revision>
  <dc:subject/>
  <dc:title>Slide 1</dc:title>
</cp:coreProperties>
</file>