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C68-35F5-4A3D-88CD-0FA14E1C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A99-10A7-4C44-AD31-E723346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CC9-9B35-4D38-A81D-08A45B67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04C-0ADE-44FD-9422-B2A8DD68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BC8-DEA1-4616-A7EA-A50919B4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B78-CCD5-4E31-BED7-EDD0EFB7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B83-D37B-419F-BBDF-E8BF1A5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169-CBB9-4ECD-AABF-29D822C2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52E-36C4-4650-9470-40BCF56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C74-D4C5-42C0-911A-C804CEF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9EF-B30B-4877-AB2E-A3C92E4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984-24EC-405C-91F0-4CDE00D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9DDD-F041-48C7-A016-39CC4C99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907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Poor economic conditions: There is only 1 job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800600"/>
            <a:ext cx="609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2 jobs 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n fie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791320"/>
            <a:ext cx="66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job is in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evant fiel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’s job is n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35268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 at a salary an inc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igher than Worker B’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crement is equal to Worker A’s surplu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40384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utbids Y for Worker A’s services by $1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876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s A and B get jobs at same salary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he employer who, by random chance hi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, gets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562720"/>
            <a:ext cx="198108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at a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higher than Worker B’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shares surplus with Worke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6477120"/>
            <a:ext cx="2228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hires Worker A for $1 more th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ffer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6934320"/>
            <a:ext cx="2228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for same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t which Employer Y hire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391520"/>
            <a:ext cx="200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hires Worker A for same sala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t which Employer X hires Worker B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outbids X for Worker A’s services by $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Y gets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6019920"/>
            <a:ext cx="198108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hires Worker A for $1 more th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X offers Worker B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ost of Worker A’s surplus is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7543800"/>
            <a:ext cx="285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5812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employers tes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038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X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X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4956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Y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9528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either employer 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gnorant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1722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imple 2-employer, 2-worker labor marke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which Worker A has a human capital surplus relative to Worker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523880"/>
            <a:ext cx="2133720" cy="40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, employer captures surplus 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unemploy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’s human capital accumulation was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52388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 tests  applican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ecomes 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gets job, employer captures surplu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unemploye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s human capital accumulation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514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mployer does not test applicant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mains un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514600"/>
            <a:ext cx="23432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B gets job, Worker A’s surplus wasted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  unemploy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Worker A’s human capital accumulation was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057400"/>
            <a:ext cx="28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59092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0574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/>
          <p:nvPr/>
        </p:nvCxnSpPr>
        <p:spPr>
          <a:xfrm flipV="1">
            <a:off x="1752480" y="1751760"/>
            <a:ext cx="99144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6" idx="3"/>
            <a:endCxn id="68" idx="1"/>
          </p:cNvCxnSpPr>
          <p:nvPr/>
        </p:nvCxnSpPr>
        <p:spPr>
          <a:xfrm>
            <a:off x="1752480" y="2171880"/>
            <a:ext cx="63252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/>
          <p:nvPr/>
        </p:nvCxnSpPr>
        <p:spPr>
          <a:xfrm flipV="1">
            <a:off x="2514240" y="2209320"/>
            <a:ext cx="68652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8" idx="6"/>
            <a:endCxn id="63" idx="1"/>
          </p:cNvCxnSpPr>
          <p:nvPr/>
        </p:nvCxnSpPr>
        <p:spPr>
          <a:xfrm>
            <a:off x="2514600" y="2438640"/>
            <a:ext cx="686160" cy="279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304920" y="30481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Strong economic conditions: There are 2 job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8006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3" idx="6"/>
            <a:endCxn id="74" idx="1"/>
          </p:cNvCxnSpPr>
          <p:nvPr/>
        </p:nvCxnSpPr>
        <p:spPr>
          <a:xfrm flipV="1">
            <a:off x="762120" y="4915080"/>
            <a:ext cx="38124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4" idx="3"/>
            <a:endCxn id="54" idx="1"/>
          </p:cNvCxnSpPr>
          <p:nvPr/>
        </p:nvCxnSpPr>
        <p:spPr>
          <a:xfrm flipV="1">
            <a:off x="1371600" y="3733560"/>
            <a:ext cx="45756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4" idx="3"/>
            <a:endCxn id="55" idx="1"/>
          </p:cNvCxnSpPr>
          <p:nvPr/>
        </p:nvCxnSpPr>
        <p:spPr>
          <a:xfrm flipV="1">
            <a:off x="1371600" y="4190760"/>
            <a:ext cx="4575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4" idx="3"/>
            <a:endCxn id="56" idx="1"/>
          </p:cNvCxnSpPr>
          <p:nvPr/>
        </p:nvCxnSpPr>
        <p:spPr>
          <a:xfrm flipV="1">
            <a:off x="1371600" y="4647960"/>
            <a:ext cx="457560" cy="26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4" idx="3"/>
            <a:endCxn id="57" idx="1"/>
          </p:cNvCxnSpPr>
          <p:nvPr/>
        </p:nvCxnSpPr>
        <p:spPr>
          <a:xfrm>
            <a:off x="1371600" y="4915080"/>
            <a:ext cx="457560" cy="19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54" idx="3"/>
            <a:endCxn id="44" idx="1"/>
          </p:cNvCxnSpPr>
          <p:nvPr/>
        </p:nvCxnSpPr>
        <p:spPr>
          <a:xfrm flipV="1">
            <a:off x="3352680" y="3619440"/>
            <a:ext cx="153000" cy="11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55" idx="3"/>
            <a:endCxn id="45" idx="1"/>
          </p:cNvCxnSpPr>
          <p:nvPr/>
        </p:nvCxnSpPr>
        <p:spPr>
          <a:xfrm flipV="1">
            <a:off x="3276720" y="4152600"/>
            <a:ext cx="2289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56" idx="3"/>
            <a:endCxn id="51" idx="1"/>
          </p:cNvCxnSpPr>
          <p:nvPr/>
        </p:nvCxnSpPr>
        <p:spPr>
          <a:xfrm flipV="1">
            <a:off x="3276720" y="4572000"/>
            <a:ext cx="228960" cy="7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7" idx="3"/>
            <a:endCxn id="46" idx="1"/>
          </p:cNvCxnSpPr>
          <p:nvPr/>
        </p:nvCxnSpPr>
        <p:spPr>
          <a:xfrm>
            <a:off x="3352680" y="5105160"/>
            <a:ext cx="1530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1828800" y="55627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employers test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60199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X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X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nly Employer Y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Y aware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1629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either employer  tes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th ignorant of Worker A’s surpl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5943600"/>
            <a:ext cx="228600" cy="22860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3"/>
            <a:endCxn id="84" idx="1"/>
          </p:cNvCxnSpPr>
          <p:nvPr/>
        </p:nvCxnSpPr>
        <p:spPr>
          <a:xfrm flipV="1">
            <a:off x="1371600" y="5715000"/>
            <a:ext cx="4575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8" idx="3"/>
            <a:endCxn id="85" idx="1"/>
          </p:cNvCxnSpPr>
          <p:nvPr/>
        </p:nvCxnSpPr>
        <p:spPr>
          <a:xfrm>
            <a:off x="1371600" y="6058080"/>
            <a:ext cx="457560" cy="11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8" idx="3"/>
            <a:endCxn id="86" idx="1"/>
          </p:cNvCxnSpPr>
          <p:nvPr/>
        </p:nvCxnSpPr>
        <p:spPr>
          <a:xfrm>
            <a:off x="1371600" y="6058080"/>
            <a:ext cx="457560" cy="571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8" idx="3"/>
            <a:endCxn id="87" idx="1"/>
          </p:cNvCxnSpPr>
          <p:nvPr/>
        </p:nvCxnSpPr>
        <p:spPr>
          <a:xfrm>
            <a:off x="1371600" y="6058080"/>
            <a:ext cx="360" cy="125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73" idx="6"/>
            <a:endCxn id="88" idx="1"/>
          </p:cNvCxnSpPr>
          <p:nvPr/>
        </p:nvCxnSpPr>
        <p:spPr>
          <a:xfrm>
            <a:off x="762120" y="5410440"/>
            <a:ext cx="381240" cy="64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7" idx="3"/>
            <a:endCxn id="49" idx="1"/>
          </p:cNvCxnSpPr>
          <p:nvPr/>
        </p:nvCxnSpPr>
        <p:spPr>
          <a:xfrm flipV="1">
            <a:off x="2895480" y="7137360"/>
            <a:ext cx="61020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7" idx="3"/>
            <a:endCxn id="50" idx="1"/>
          </p:cNvCxnSpPr>
          <p:nvPr/>
        </p:nvCxnSpPr>
        <p:spPr>
          <a:xfrm>
            <a:off x="2895480" y="7315200"/>
            <a:ext cx="610200" cy="27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971800" y="7086600"/>
            <a:ext cx="285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= 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82296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8229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822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io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8229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location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4:28:14Z</dcterms:created>
  <dc:creator>Dr. Sameano F. Porchea</dc:creator>
  <dc:description/>
  <dc:language>en-US</dc:language>
  <cp:lastModifiedBy>Richard Phelps</cp:lastModifiedBy>
  <dcterms:modified xsi:type="dcterms:W3CDTF">2009-05-12T23:02:04Z</dcterms:modified>
  <cp:revision>18</cp:revision>
  <dc:subject/>
  <dc:title>Slide 1</dc:title>
</cp:coreProperties>
</file>